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BE40-32A0-4272-A5E5-DC93DDF8C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B5CB-9AA5-4277-90E2-81C2F89F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AF87-0590-4CFA-8D33-1D713092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86D2-4E9E-4BA2-A1FB-E6AC3167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0910-BBD3-4268-A4B4-9F425C029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CC51-2AEE-4CA6-BCFC-E9C41537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DFC9-FCA8-4615-AC6C-D795EB07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A518-4E1C-4938-AA7F-32E89F87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F8FE-C30B-4CDE-BE06-2E94B70B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435D-0021-43FB-B92C-38AB1319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CBC7D-46C0-4A98-BFC3-ECDAF037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BE52-1E77-4201-A297-AE7F3500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7F47-348C-48B2-8A79-A0688C469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963E-5EA5-4441-87AF-8A6442BE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3457-D9C8-400F-AAA6-8936A5F3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6EFD-C8E9-4058-A3CA-9A62CD10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045E-6D4A-45AB-A8E6-21ED557C9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2F7AAF-6984-438E-9708-CA183CE1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691BAC-FA14-43FD-AB6F-8A9FFE0D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C67E98-D40E-4562-B6FB-A7BE71AD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242F91-FED9-46CA-BA76-CE232565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6F5766-3FB6-46FB-B436-192910965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3A3E-EC0A-4F11-9C6D-F3331D95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57FA81-F2A4-4537-A2D5-5EE91F14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1553D9-AF61-48AA-83EA-396AAC2E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6EE8A4-9BB3-4D9D-9660-F28EE668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786EA5-CF3F-427A-972D-A1DF777EA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3C235C-CDA4-4846-8E90-097A04A5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06A253-2E66-4B94-8B12-CAD8630CE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D9079F-5397-46EE-BCEC-5B3FFCA6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0B38A-C024-4399-AD01-050451937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ADF25-32E4-4D07-A699-4180CA276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34EEE-C11E-4251-A9B1-07F9D3DF1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EC70-80A3-412C-A31A-7F2D92F2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1444A-CB3A-4DE4-B573-F8AA1C3C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1E498-46F8-4960-8E7A-84BF236A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13665-716A-4B02-83AE-3509F60E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01A69-D5D7-475E-BA38-F6581139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CC909-5832-4329-A4DA-073382D0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8DB30-2690-4D55-BB03-4AE6C14D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1E609-34D1-405C-89D8-C60215D1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89331-2829-4787-A8FB-73432988B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37D92-1415-420D-B813-5791EFB0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2CEEF-76A6-42D9-A982-9750C4F0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C0DE-3F2A-4D46-BD97-7EEC574E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0F564-BC68-4D01-9B5A-E94804C2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2D220-8F33-4B07-85DC-80B305B6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1027C-2AC1-46F5-B50F-B98ED578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86AF5-3098-4EEC-96B8-F03B1115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8B373-7DD4-40E0-9682-578AD0B7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23F36-8942-4C3D-999E-238F451D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2DFEE-91A9-4818-BDDC-CA98D4AD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B64B1-C8C8-4A61-B118-038411A8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D51B1-BE14-452F-B7BB-8342CFE9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A8C2C-D052-46EE-A4B5-593A1CF88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A25B-D12E-4EC1-A2DB-0058966A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6E140-62DB-4C0F-B372-AF5F1A9BA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D14D-5695-44DF-833B-8AAF5C84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6BB9-9013-4930-9EFD-0C083C55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D5FB-7D9E-44EE-BAD5-E2BC1C29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BF3E-B83E-4887-8E01-7533835754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752120" y="2819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91FE2-60A1-45CD-BC17-DFE40203395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00EE-6814-4BB8-BACA-F6B37C5DC3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85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86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87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88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89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90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</p:grpSp>
        <p:sp>
          <p:nvSpPr>
            <p:cNvPr id="91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sp>
        <p:nvSpPr>
          <p:cNvPr id="9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pector Şăitan Trai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05120" y="1676520"/>
            <a:ext cx="67816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905120" y="2819160"/>
            <a:ext cx="678168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or Şăitan Tra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4759-0ABA-4F90-9689-BF489C8F56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74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75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176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177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178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  <p:sp>
            <p:nvSpPr>
              <p:cNvPr id="179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5f5f5f"/>
                  </a:solidFill>
                  <a:latin typeface="Arial Black"/>
                </a:endParaRPr>
              </a:p>
            </p:txBody>
          </p:sp>
        </p:grpSp>
        <p:sp>
          <p:nvSpPr>
            <p:cNvPr id="180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  <p:sp>
          <p:nvSpPr>
            <p:cNvPr id="181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f5f5f"/>
                </a:solidFill>
                <a:latin typeface="Arial Black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Arial Black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pector Şăitan Trai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58B6-65AB-401D-970C-DD5B1247F2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ffffff"/>
                </a:solidFill>
                <a:latin typeface="Garamond"/>
              </a:rPr>
              <a:t>PORTOFOLIU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FESORULUI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ETODIST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ORTOFOLIUL ELEVULU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CD01-2786-4507-B16A-9DA4F8BF8880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24720" indent="-22716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ffff"/>
                </a:solidFill>
                <a:latin typeface="Garamond"/>
              </a:rPr>
              <a:t>Portofoliul 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eprezintă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4720" indent="-22716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cartea de vizită” a elevului, prin care profesorul poate să-i urmărească progresul – în plan cognitiv, atitudinal şi comportamental – la o anumită disciplină, de-a lungul unui interval mai lung de timp (un semestru sau un an şcolar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4720" indent="-22716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un pact între elev şi profesorul care trebuie să-l ajute pe elev să se autoevalueze. Profesorul discută cu elevul despre ce trebuie să ştie şi ce trebuie să facă acesta de-a lungul procesului de învăţare. La începutul demersului educativ se realizează un diagnostic asupra necesităţilor elevului de învăţare pentru a stabili obiectivele şi criteriile de evaluare. Diagnosticul este făcut de profesor şi este discutat cu elevul implicat în evaluar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 u="sng">
                <a:solidFill>
                  <a:srgbClr val="e5e5ff"/>
                </a:solidFill>
                <a:uFillTx/>
                <a:latin typeface="Garamond"/>
              </a:rPr>
              <a:t>PORTOFOLIUL ELEVULU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052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lista conţinutului acestuia, (sumarul, care include titlul fiecărei lucrări/fişe,etc. şi numărul paginii la care se găseşte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argumentaţia care explică ce lucrări sunt incluse în portofoliu, de ce este importantă fiecare şi cum se articulează între ele într-o viziune de ansamblu a elevului/grupului cu privire la subiectul respectiv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lucrările pe care le face elevul individual sau în grup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ezumat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eseur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articole, referate, comunicăr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fişe individuale de studiu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proiecte şi experiment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1120" indent="-224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temele zilnic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e5e5ff"/>
                </a:solidFill>
                <a:latin typeface="Garamond"/>
              </a:rPr>
              <a:t>Portofoliul cuprinde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probleme rezolvat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apoarte scrise – de realizare a proiectel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teste şi lucrări semestrial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chestionare de atitudin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înregistrări, fotografii care reflectă activitatea desfăşurată de elev individual sau împreună cu colegii să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observaţii pe baza unor ghiduri de observaţi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eflecţiile proprii ale elevului asupra a ceea ce lucrează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autoevaluări scrise de elev sau de membrii grupulu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interviuri de evaluar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alte materiale, hărţi cognitive, contribuţii la activitate care reflectă participarea elevului/ grupului la derularea şi soluţionarea temei dat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24012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 thruBlk="true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68544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viitoare obiective pornind de la realizările curente ale elevului/grupului, pe baza intereselor şi a progreselor înregistrat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comentarii suplimentare şi evaluări ale profesorului, ale altor grupuri de învăţare şi/sau ale altor părţi interesate, de exemplu părinţii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ezultate ale lucrărilor de evaluare efectuate pentru teme din domeniul profesional sau abilităţi chei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rezultate ale activităţilor de autoevaluare şi dovezi ale discuţiilor care au avut lo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opiniile elevilor privind activităţile desfăşur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planuri de acţiune/ evaluări/ activităţi viitoare planificate şi efectuate de către elev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Garamond"/>
              </a:rPr>
              <a:t>comentarii ale profesorului privind atitudinea şi rezultatele elevulu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237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BEA1-C51A-472B-B62E-5ABEB99C792F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elegaţia de numire 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Curriculum Vitae(Europass).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Graficul de evidenţă a inspecţiilor efectuate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Graficul inspecţiilor de specialitate şi tematice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Diagnoza procesului de învăţământ de specialitate (in sectorul/zona arondat(ă), la finele fiecărui semestru)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Copie a rapoartelor de inspecţie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Modele de documente de planificare şi proiecte didactice la nivelul învăţământului primar, gimnazial şi liceal, după caz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Legi, ordine, note ale M.E.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C.S</a:t>
            </a:r>
            <a:r>
              <a:rPr b="0" lang="fr-FR" sz="2400" spc="-1" strike="noStrike">
                <a:solidFill>
                  <a:srgbClr val="ffffff"/>
                </a:solidFill>
                <a:latin typeface="Garamond"/>
              </a:rPr>
              <a:t>., Guvernului privind  învăţământul preuniversita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delul formularelor tip folosite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î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n cadrul inspecţiilo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DD1E-D5A7-49A2-B830-F3094070D45B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2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Garamond"/>
              </a:rPr>
              <a:t>PORTOFOLIUL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ESPONSABILULU</a:t>
            </a:r>
            <a:r>
              <a:rPr b="1" lang="ro-RO" sz="4400" spc="-1" strike="noStrike">
                <a:solidFill>
                  <a:srgbClr val="ffffff"/>
                </a:solidFill>
                <a:latin typeface="Garamond"/>
              </a:rPr>
              <a:t>I DE CATEDRĂ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98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lanul de activităţi metodico-ştiinţifice ale catedrei pentru anul școlar  în cu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rogramele şcolare valabile în anul şcolar în cur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rogramele pentru examenele naţionale (bacalaureat) şi concursurile şcolar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lanificări le calendaristice ale membrilor catedre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lanurile -cadru pentru anul şcolar curent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Tabel  nominal cu membrii catedrei şi datele lor personale (telefon, adresa de e-mail, şcoala de provenienţă, grad didactic, specialitatea, vechimea în învăţământ etc.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lanul managerial al catedre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Calendarul şi tematica activităţilor de catedră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rocesele – verbale ale şedinţelor de catedră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Materialele ştiinţifice şi metodice prezentate în cadrul activităţilor de catedr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65040" indent="-255600" algn="just">
              <a:lnSpc>
                <a:spcPct val="7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Calendarul olimpiadelor şi concursurilor şcolare la care participă elevii unității de învățământ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ll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5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Garamond"/>
              </a:rPr>
              <a:t>PORTOFOLIUL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ESPONSABILULUI</a:t>
            </a:r>
            <a:r>
              <a:rPr b="1" lang="ro-RO" sz="4400" spc="-1" strike="noStrike">
                <a:solidFill>
                  <a:srgbClr val="ffffff"/>
                </a:solidFill>
                <a:latin typeface="Garamond"/>
              </a:rPr>
              <a:t> DE CERC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Lista şcolilor arondate cerculu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Lista nominală a cadrelor didactice din cadrul cercului, cu datele lor personale (şcoala de provenienţă, telefon, adresa de e-mail, specialitatea,  gradul didactic, vechimea în învăţământ, modul de încadrare: suplinitor calificat/necalificat, titular, pensionar, detaşat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lanul managerial al şefului cercului metodi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Tematica şedinţelor de cerc, data şi locul de desfăşurar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Procesele -verbale încheiate la activităţile de cer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Materialele ştiinţifice şi metodice prezentate în cadrul activităţilor de cerc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668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ff"/>
                </a:solidFill>
                <a:latin typeface="Garamond"/>
              </a:rPr>
              <a:t>Calendarul examenelor naţionale (evaluare – clasa a VI-a, bacalaureat), al olimpiadelor şi al concursurilor şcolare din anul școlar respectiv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98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98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98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98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898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ORTOFOLIUL PROFESORULUI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E0EC-E3CD-4EA4-A79E-54BC44C7A386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7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68580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I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  <a:ea typeface="Tahoma"/>
              </a:rPr>
              <a:t>: structura anului școlar, încadrarea (clase, nr. de ore), orarul, fișa postului, calendarul activităților pe anul în cu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-294840" algn="just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a II-a</a:t>
            </a:r>
            <a:r>
              <a:rPr b="0" lang="ro-RO" sz="2800" spc="-1" strike="noStrike">
                <a:solidFill>
                  <a:srgbClr val="ffffff"/>
                </a:solidFill>
                <a:latin typeface="Garamond"/>
                <a:ea typeface="Tahoma"/>
              </a:rPr>
              <a:t>: programele școlare, programele opționalelor în derulare, planificarea anuală și semestrială a materiei pe unități de învățare, proiecte didactice, teste de evaluare inițială, curentă și sumativă-concluzii, modalități alternative de evaluare (proiecte, referate, portofolii întocmite de elevi), fișe de lucru, caietul –catalog, inventarul materialului didactic din școală, fișe cu asistențe la ore pentru profesorii debutanț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Substituent număr diapozitiv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30A1-4E95-4D43-AE09-8685D69D78B4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a III-a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  <a:ea typeface="Tahoma"/>
              </a:rPr>
              <a:t>: regulamentul, precizările și programele pentru olimpiada națională școlară la disciplina..., subiecte de olimpiadă propuse, lista elevilor selectați pentru olimpiade, rezultatele obținute la diferite competiții/activități specifice discipline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a IV-a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  <a:ea typeface="Tahoma"/>
              </a:rPr>
              <a:t>:  Proiecte personale sau proiecte/programe în care este angajat pentru implementar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a V-a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  <a:ea typeface="Tahoma"/>
              </a:rPr>
              <a:t>: perfecționar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ffffff"/>
                </a:solidFill>
                <a:uFillTx/>
                <a:latin typeface="Garamond"/>
                <a:ea typeface="Tahoma"/>
              </a:rPr>
              <a:t>Partea a VI-a </a:t>
            </a:r>
            <a:r>
              <a:rPr b="0" lang="ro-RO" sz="2400" spc="-1" strike="noStrike">
                <a:solidFill>
                  <a:srgbClr val="ffffff"/>
                </a:solidFill>
                <a:latin typeface="Garamond"/>
                <a:ea typeface="Tahoma"/>
              </a:rPr>
              <a:t>: materiale didactice –produse proprii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CC87-C3CC-4792-9A85-E69C0BB012E3}" type="slidenum">
              <a:rPr b="0" lang="en-US" sz="12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f5f5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04:38:28Z</dcterms:created>
  <dc:creator>manu</dc:creator>
  <dc:description/>
  <dc:language>en-US</dc:language>
  <cp:lastModifiedBy>Micky</cp:lastModifiedBy>
  <dcterms:modified xsi:type="dcterms:W3CDTF">2016-09-18T12:33:24Z</dcterms:modified>
  <cp:revision>612</cp:revision>
  <dc:subject/>
  <dc:title>Comisia Nationala de Informatica</dc:title>
</cp:coreProperties>
</file>