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41E-05E8-4310-A970-5EFA46FE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13F-2B7B-4354-90CB-B57061B7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B9F-72F3-4B21-A7C0-F1A36F89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D31-D777-4AEB-AAF2-AA697225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1D0A-33A8-4A8E-8D6F-6D42FBB7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B319-4E8F-47D9-BD19-F6B8AF32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06F9-1FB8-421D-800F-4ED2F37D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89E2-C78F-4B56-B851-AF0BBCA0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7624-A915-4237-A7E1-B40483DD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368A-99D0-45FB-AC4E-BB1751FB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124F-3149-4882-B79E-9E7E2409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20B-78E7-4934-841A-789662CA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8623-91F2-4BB6-9AD5-E80BDC73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C033-97B8-4D53-BFD6-46FD8F72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7290-3371-461B-865D-312E04DB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C530-CF6B-4646-B419-E6992D83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E696-9DBD-42E7-902D-310FDA2B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22C3C-F7D6-4CB6-B0EA-447EDA1B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B99DA-C87B-4210-85A3-5CA38DF9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AD78B-0783-439B-8968-6C8E36CB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0911F-70F7-4B80-848F-8C3572C8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BF6F0-4831-4837-B87A-A59E1C76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192-F537-4C98-ADA1-56927E5F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BB6EF-A4CE-4247-ADE3-87233FC8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156B4-007B-464E-A702-9B498C17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F129E-F204-430B-BAD3-F419D2BE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27408-41FF-4C26-AEDF-99A38869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B4563-CDAB-41B4-AF2D-2533BA03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11538-3A1A-4455-9A86-AE6791AB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9E12F-0E75-4812-846A-639A0A83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07E5-3BFD-4ED5-90CB-5EAF7B49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07296-C9AD-431F-AC7E-D0F3A29D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9148A-A59F-455B-AAB5-475CE0AC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451-877E-48D5-8C02-708DAD80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269FA-DED0-4987-9A5A-7086A20F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81961-9A79-468A-AE92-2CA82347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7965-DCD5-47FB-9832-9EE7BB13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51DB6-4732-4830-9CCF-FC4E3AF6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43AA-8F24-4F2C-A481-8B50C44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2DEAB-1DC5-4DF2-BF08-E7116F78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B8692-68F5-4CAD-86E5-210D6102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1A8C3-5B3E-42A3-8509-0FA288C1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2C0F-E9CB-40CE-B7C2-2966AAF0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75292-E804-4AE5-95B0-50509046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FEA-6117-4826-9096-7662DEFC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C841A-C0C6-4AF1-BE79-8A4BCBE6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E8ECC-D016-4741-8A7A-99B2D6AB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7563C-D71A-4CD1-B546-88F40AB2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27537-6849-4487-8A4D-A694ABCC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2BE7E-315A-4465-944D-C4A947B1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DAAAC-B3D3-4941-959C-07B3D801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F5431-C180-40B6-BD0B-DBEF8A5A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6533E-EE47-4331-AE35-EDCDE4DE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6017A-7842-4A63-A6D1-5EA25D52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76C07-7558-4F6B-BF58-4CA8E5DA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1C0-8F64-47FB-97E2-D4D8AA4A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F06F5-D8B5-4A82-A0F3-1309A50B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8D2-6736-4FD5-8078-1E881514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C20-F1BA-4268-8733-A7CE4EC2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5F2-7AD8-4EB7-826E-54DA74C5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DE78-F769-44EC-87A1-97C26DCAF2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8306-41E0-4B8D-885D-8662E6AA24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2510-6AD2-44C6-82F8-C86A7835A2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9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06A7-8F52-4A6C-B10C-DA9585DA0B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18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76FB-D7FE-4A8A-A488-FCD2C2B7AF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FESORULUI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ETODI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ELEV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EEB8-303D-42A7-9F67-82752DC1010B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prezint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un pact 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elevului de învăţare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e5e5ff"/>
                </a:solidFill>
                <a:uFillTx/>
                <a:latin typeface="Garamond"/>
              </a:rPr>
              <a:t>PORTOFOLIUL ELEVULU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ista conţinutului acestuia, (sumarul, care include titlul fiecărei lucrări/fişe,etc. şi numărul paginii la care se găseşte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ucrările pe care le face elevul individual sau în grup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m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eseu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ticole, referate, comunică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fişe individuale de studiu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iecte şi experimen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mele zilnic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Portofoliul cuprind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bleme rezolv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apoarte scrise – de realizare a proiectel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ste şi lucrări semestrial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hestionare de atitudin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înregistrări, fotografii care reflectă activitatea desfăşurată de elev individual sau împreună cu colegii să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bservaţii pe baza unor ghiduri de observa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flecţiile proprii ale elevului asupra a ceea ce lucrează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utoevaluări scrise de elev sau de membrii grupulu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interviuri de evalua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lte materiale, hărţi cognitive, contribuţii la activitate care reflectă participarea elevului/ grupului la derularea şi soluţionarea temei d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viitoare obiective pornind de la realizările curente ale elevului/grupului, pe baza intereselor şi a progreselor înregistr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suplimentare şi evaluări ale profesorului, ale altor grupuri de învăţare şi/sau ale altor părţi interesate, de exemplu părin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lucrărilor de evaluare efectuate pentru teme din domeniul profesional sau abilităţi che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activităţilor de autoevaluare şi dovezi ale discuţiilor care au avut lo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piniile elevilor privind activităţile desfăşu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lanuri de acţiune/ evaluări/ activităţi viitoare planificate şi efectuate de către ele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ale profesorului privind atitudinea şi rezultatele elevul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60BD-F5B2-4E5E-921D-E201926489DD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egaţia de numire 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urriculum Vitae(Europass)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de evidenţă a inspecţiilor efectuat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inspecţiilor de specialitate şi tematic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Diagnoza procesului de învăţământ de specialitate (in sectorul/zona arondat(ă), la finele fiecărui semestru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opie a rapoartelor de inspecţi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Modele de documente de planificare şi proiecte didactice la nivelul învăţământului primar, gimnazial şi liceal, după ca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Legi, ordine, note ale M.E.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.S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., Guvernului privind  învăţământul preuniversit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ul formularelor tip folosite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î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cadrul inspecţiil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06E3-F5F8-4C78-9F69-1A746EE964FF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2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I DE CATEDRĂ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de activităţi metodico-ştiinţifice ale catedrei pentru anul școlar 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şcolare valabile în anul şcolar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pentru examenele naţionale (bacalaureat) şi concursurile şcol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ificări le calendaristice ale membrilor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rile -cadru pentru anul şcolar cur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abel  nominal cu membrii catedrei şi datele lor personale (telefon, adresa de e-mail, şcoala de provenienţă, grad didactic, specialitatea, vechimea în învăţământ etc.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şi tematica activităţi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– verbale ale şedinţe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atedr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I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 DE CERC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şcolilor arondate cerculu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şefului cercului metodi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ematica şedinţelor de cerc, data şi locul de desfăşura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-verbale încheiate la activităţile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PROFESOR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9E84-39AC-4DC6-A634-747A458F12B4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7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pentru profesorii debutanț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Substituent număr diapozitiv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73C7-0F43-45AC-88A8-45F88C3418B6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perfecțion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F5AC-88A0-4F54-9BB3-537791FD812A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Micky</cp:lastModifiedBy>
  <dcterms:modified xsi:type="dcterms:W3CDTF">2016-09-18T12:33:24Z</dcterms:modified>
  <cp:revision>612</cp:revision>
  <dc:subject/>
  <dc:title>Comisia Nationala de Informatica</dc:title>
</cp:coreProperties>
</file>