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906-D744-4F83-9DC4-9B5FD37A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A5B-BF0A-4D70-A2EE-B48AC45B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EE1-CF8A-471A-BC3B-773A6ECE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0ED-20A4-48E4-BAEE-E55312D4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4D2-1381-4AE1-B797-BA7BD129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1F6-1A5C-4602-84E4-6AC2D266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7FA-C855-4BAB-A5E7-C9BF8D4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9F3-81ED-4FD0-A0B5-3EBB6D6D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246-55BC-4BFD-AEEA-327C3097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A3C-999A-454C-8D86-8C548C8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C59-4174-4BD1-B23B-6EB4C81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6C3-F254-4896-AD65-146AF671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756C2-3580-4C1B-BA7E-EBD0160B99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9:14Z</dcterms:modified>
  <cp:revision>25</cp:revision>
  <dc:subject/>
  <dc:title>Elemente de noutate ale programei școlare pentru disciplina</dc:title>
</cp:coreProperties>
</file>