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F16-20ED-406E-870E-0F6113EC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A874-5567-4393-8159-7F978B3139B5}" type="slidenum">
              <a:rPr b="0" lang="en-US" sz="1200" spc="-1" strike="noStrike">
                <a:solidFill>
                  <a:srgbClr val="000000"/>
                </a:solidFill>
                <a:latin typeface="Titillium We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0E8-AEB0-43D2-B2C0-BE1010AF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49B-18C6-4F51-B7F8-3E6B66C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520-2FE3-4C0E-BFDA-F31B8372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CA0-2C4B-452D-ABFB-8BEF5478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73C-C80D-48A6-9096-A0B756F4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AB0-9DB0-4528-B83B-90FD0B7E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181-1E3E-4A42-8D3C-E1DAEA6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122-F43D-4BFD-ADC4-67B47B53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8E8-0134-4AA4-97F7-9F475256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84C-1869-49AD-986A-B3E8308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1E4-7526-411A-A20B-7CAD639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1F9-99D8-4F9C-AC83-9B56B9A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D71A-1D6B-4A7C-BC47-5B3E98F48B5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 sortat dupa laptopul vechi\15.05.2013\0.1.data\work\0.2. scoala de valori\0.4. Communication\rebranding 2013\Pt prezentari\template-ppts-03.jpg"/>
          <p:cNvPicPr/>
          <p:nvPr/>
        </p:nvPicPr>
        <p:blipFill>
          <a:blip r:embed="rId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de sortat dupa laptopul vechi\15.05.2013\0.1.data\work\0.2. scoala de valori\0.4. Communication\rebranding 2013\Pt prezentari\template-ppts-04.jpg"/>
          <p:cNvPicPr/>
          <p:nvPr/>
        </p:nvPicPr>
        <p:blipFill>
          <a:blip r:embed="rId2"/>
          <a:stretch/>
        </p:blipFill>
        <p:spPr>
          <a:xfrm>
            <a:off x="-4680" y="1247760"/>
            <a:ext cx="9974160" cy="5610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de sortat dupa laptopul vechi\15.05.2013\0.1.data\work\0.2. scoala de valori\0.4. Communication\rebranding 2013\Pt prezentari\template-ppts-01.jpg"/>
          <p:cNvPicPr/>
          <p:nvPr/>
        </p:nvPicPr>
        <p:blipFill>
          <a:blip r:embed="rId2"/>
          <a:stretch/>
        </p:blipFill>
        <p:spPr>
          <a:xfrm>
            <a:off x="-7920" y="1281240"/>
            <a:ext cx="9914040" cy="5576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tilium"/>
              </a:rPr>
              <a:t>OLIMPIADELE KAUFLAN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Content Placeholder 4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5905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4162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162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2"/>
          <a:stretch/>
        </p:blipFill>
        <p:spPr>
          <a:xfrm>
            <a:off x="762120" y="2379600"/>
            <a:ext cx="4162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4876920" y="1495440"/>
            <a:ext cx="4162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 SE BUCURE DE PREMII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903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CALENDARUL COMPETIȚIEI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80960" y="1596960"/>
            <a:ext cx="8944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COSTURI ELIGIBILE PENTRU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PROIECTUL ȘCOLI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iecte de investiție – renovări, amenajări, etc..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Achiziții de bunuri și servicii necesare bunei desfășurări a activității școla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elevilor (fonduri de premiere, alte activități extracuricula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profesorilor (fonduri de premiere, programe de pregati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rian.knup@scoaladevalori.r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743618859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ww.olimpiadelek.ro – din 15 septembri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STRUCTURA PREZENT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R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000" y="1600200"/>
            <a:ext cx="933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e este programul : </a:t>
            </a:r>
            <a:r>
              <a:rPr b="1" lang="en-US" sz="2800" spc="-1" strike="noStrike">
                <a:solidFill>
                  <a:srgbClr val="000000"/>
                </a:solidFill>
                <a:latin typeface="Titilium"/>
              </a:rPr>
              <a:t>“OLIMPIADELE KAUFLAND”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se buc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de premi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2" descr="https://encrypted-tbn0.gstatic.com/images?q=tbn:ANd9GcQAotxXLcjQMkIAiYsewYD6xpuHHtZQWIv9TnZFQ4XIVTzdiimS8A"/>
          <p:cNvPicPr/>
          <p:nvPr/>
        </p:nvPicPr>
        <p:blipFill>
          <a:blip r:embed="rId1"/>
          <a:stretch/>
        </p:blipFill>
        <p:spPr>
          <a:xfrm>
            <a:off x="6465960" y="25146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-152280" y="77760"/>
            <a:ext cx="10210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R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este un program de </a:t>
            </a:r>
            <a:r>
              <a:rPr b="1" lang="vi-VN" sz="2800" spc="-1" strike="noStrike">
                <a:solidFill>
                  <a:srgbClr val="000000"/>
                </a:solidFill>
                <a:latin typeface="Titilium"/>
              </a:rPr>
              <a:t>responsabilitate socială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sponsorizat de către Kaufland România și implementat în parteneriat cu Școala de Valori și Ministerul Educației și Cercetării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are forma unei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ii la nivel național la care pot participa toate instituțiile de învățământ public din România -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grădinițe, școli primare și gimnaziale, licee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R</a:t>
            </a: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Câștigătoare vor fi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unitățile de învățământ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ai căror dascăli și elevi formează adevărate echipe și desfășoară împreună cât mai multe activităț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 educaționale extracuriculare înscrise pe platforma competiț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www.olimpiadelek.r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-38160" y="609480"/>
            <a:ext cx="1006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982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http://sunshineconsultingltd.com/wp-content/uploads/2011/06/our_business_system_integration.jpg"/>
          <p:cNvPicPr/>
          <p:nvPr/>
        </p:nvPicPr>
        <p:blipFill>
          <a:blip r:embed="rId1"/>
          <a:stretch/>
        </p:blipFill>
        <p:spPr>
          <a:xfrm>
            <a:off x="2525760" y="2133720"/>
            <a:ext cx="461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9256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us</dc:creator>
  <dc:description/>
  <dc:language>en-US</dc:language>
  <cp:lastModifiedBy>Elena</cp:lastModifiedBy>
  <dcterms:modified xsi:type="dcterms:W3CDTF">2015-09-14T09:46:18Z</dcterms:modified>
  <cp:revision>45</cp:revision>
  <dc:subject/>
  <dc:title>PowerPoint Presentation</dc:title>
</cp:coreProperties>
</file>