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C93A-A614-4A0E-A395-B80891AE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9F6B-3E8D-48DC-97B1-549737E4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19B9-7816-4658-B148-CF020A5F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7511-F654-4C00-973E-02876AC8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E237-8A49-4211-97B5-7FF6334A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D5CB-DC25-490F-BB08-D0EF836A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1F2B-1C21-4AF0-8686-DB2E98C3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E364-1276-4703-BF81-CE19A1B7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9D7C-9E86-442A-911A-3471CA1A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6FD7-164D-4B94-B9E6-5F351230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43F4-8CE0-461F-911F-E65DDF4B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BCD7-1FFB-43C9-8994-DD7D3D51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3908-B25A-47D4-A360-11343111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5B73-FF9C-4EB9-961D-A84325C9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BABE-E810-487E-9670-432227E8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D450-4AAA-4F19-B10A-ABC318BC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87FE-DF7B-4783-B338-E002BC4B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82D0B2-6F5D-4A7D-B09A-A7A692BF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035F45-06D2-422A-9092-FDA71E6B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0DF773-C3AB-48CA-9D0D-2BAD769F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19B89E-7CAA-4563-AEAA-E28C3981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560B9A-22F6-4529-A6DC-16A8FCA4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394A-2446-4580-89CF-B9F16A6F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023DB-4731-43EB-A1FA-657D5814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84479-BB51-4021-8D9A-3C86F847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DEF0BD-85FD-4908-8154-CA9041DF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E1DF2D-8D32-42FF-831C-CE10786C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DB524-E653-4F96-84FB-5256EECB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DE769-D417-4FC3-93D1-024C044A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8DF44C-C662-4FCE-9417-EF534E9E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F4D5F-5A57-4E31-B885-21B0CF91A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B2DB8-03D8-492C-AE49-91F288E2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4E738-1230-422D-BA73-925BB683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FFE6-3506-4D27-A69E-4FC1EF25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D5B10-671B-420A-924F-D46CA581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9017E-E68C-40D2-A439-B221CB0E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C126E-2E8E-42F4-BC7C-6222ECD1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71BD9-055A-497B-B6DD-E232BC49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55C10-7F3C-43A2-A801-11C682D8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0671B-12AB-4A91-9076-066E9F41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0BE5F-7FD6-4FD6-83AA-F72EC0CA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5D32B-26F1-401E-9F5D-F925ED89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359FD-31E3-4155-A626-EF09EE43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63DA44-D093-4FEF-AF3B-0B1BD46D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1CB8-71B5-4AEC-A381-4F39A042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3ACC6A-3504-4F86-9731-D1E23A10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309E28-2180-45D5-B21A-3442B613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581E87-CF58-436F-9F53-EF0AAF69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548245-C35B-440B-8F5F-D9339BA3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7DB49C-BD08-4875-BC95-18FE8578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B1FE87-029B-4E21-8DEB-045D7333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13E834-D615-4439-B1B8-F60B47B1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F24A4D-491A-4E13-97FC-3BA57AF6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B80D27-1746-466C-9A91-FCCCA3DD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270500-2E75-440E-AEF2-DD901887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2F16-D23F-408D-9A35-B36BE0CF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FEE6C4-1348-497A-B4B9-C231CAEE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5D8615-6D76-4394-8500-AB6FF8CF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F550F1-14F3-4B83-A121-E92ECA27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08DCCF-3E57-4E92-86D5-03497CE1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1BC425-DE4F-466F-B88C-FA256E13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98D954-AA78-442C-8C52-7F4D2BF7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F1A09B-3398-487F-B398-BDA2081A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BF35ED-8F28-4679-828F-1E08FD1B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45F47F-E99E-4BEB-AABA-EF8AFD04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A7E0EB-8D80-4C61-BC2E-1D1CC3C2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5737-4B52-4457-BD40-AF3482ED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90B2E7-1224-4B95-A982-C392EBA8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0B2CE0-09D8-4E11-8614-F7F682EC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158F10-C920-4ED5-8E9A-F7793FB0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4007DD-7797-4DAD-B6F4-A742F645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B5C9A7-3298-446A-A583-D13F1230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1A58E5-E57E-4713-B98F-FA745F05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ABD90A-C8FB-4036-B6E8-527271FA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24D6B0-5A5F-4FC7-8DFD-10C75DBF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AC99D9-D043-43FA-B945-70FD3962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186125-37AC-4F98-8A3D-793666CD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5398-1008-496A-9E21-DC8C1976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6CE34B-E336-4CD0-911E-928C914B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B77E84-747C-442E-903D-527173E3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B3495B-0A69-4BA4-AFED-FF2DE2A1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2E73E0-11A9-4E6B-BE7F-2A4EFBE8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B71787-5580-4393-A53E-312F9234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67C8-01F6-4E71-8704-7D515DCC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1BF5-8C2A-4C0B-B503-43CAB0419F9C}" type="slidenum">
              <a:rPr b="1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438D-4C25-4652-A83C-235116F4E1BA}" type="slidenum">
              <a:rPr b="1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0CE3-631B-4783-B0C6-1C83B6069934}" type="slidenum">
              <a:rPr b="1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A79E-B077-4374-8866-AAB47BC8DE99}" type="slidenum">
              <a:rPr b="1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80F7-804D-443A-AB4C-879012F2077D}" type="slidenum">
              <a:rPr b="1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AE55-37F4-4681-A32C-C7CBE3BEF128}" type="slidenum">
              <a:rPr b="1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58ED-C595-4D6F-A994-7E556F83E1DE}" type="slidenum">
              <a:rPr b="1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000" spc="-1" strike="noStrike">
                <a:solidFill>
                  <a:srgbClr val="862110"/>
                </a:solidFill>
                <a:latin typeface="Times New Roman"/>
              </a:rPr>
              <a:t>Teoria şi practica instruirii şi evaluării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Cls. a X-a 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Prof. Radu Florentin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764640"/>
            <a:ext cx="746748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ITEMUL PEDAGOGIC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după gradul de obiectivitate, identificăm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Title 1"/>
          <p:cNvSpPr/>
          <p:nvPr/>
        </p:nvSpPr>
        <p:spPr>
          <a:xfrm>
            <a:off x="468360" y="260280"/>
            <a:ext cx="74674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DELIMITĂRI CONCEPTU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826920" y="2276640"/>
          <a:ext cx="7108920" cy="4414680"/>
        </p:xfrm>
        <a:graphic>
          <a:graphicData uri="http://schemas.openxmlformats.org/drawingml/2006/table">
            <a:tbl>
              <a:tblPr/>
              <a:tblGrid>
                <a:gridCol w="1800360"/>
                <a:gridCol w="1800360"/>
                <a:gridCol w="1790640"/>
                <a:gridCol w="1717560"/>
              </a:tblGrid>
              <a:tr h="1576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ategori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Itemi obiectiv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Itemi semiobietiv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Itemi subiectiv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(cu răspuns deschi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46440"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Tipur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emi cu alegere dual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emi cu răspuns scur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zolvare de problem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4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emi cu alegere multipl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emi de completa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seu structura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4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emi de tip perech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Întrebări structur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seu liber, nestructura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4674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EXEMPLE ITEMI OBIECTIVI</a:t>
            </a:r>
            <a:br>
              <a:rPr sz="2800"/>
            </a:br>
            <a:r>
              <a:rPr b="1" i="1" lang="vi-VN" sz="2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TEORIA ŞI PRACTICA INSTRUIRII ŞI EVALUĂ</a:t>
            </a:r>
            <a:r>
              <a:rPr b="1" i="1" lang="vi-VN" sz="29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RII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79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i cu alegere duală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selectarea răspunsului corect din două răspunsuri posibile oferit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r</a:t>
            </a:r>
            <a:r>
              <a:rPr b="0" i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le practice constituie o metod</a:t>
            </a:r>
            <a:r>
              <a:rPr b="0" i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evaluare alternativ</a:t>
            </a:r>
            <a:r>
              <a:rPr b="0" i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*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i cu alegere multipl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ea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i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gur răspuns corect sau cea mai bună alternativă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iectul didactic se întocmeste pentru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o zi de lucru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o lecţie*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o unitate de înv</a:t>
            </a:r>
            <a:r>
              <a:rPr b="0" i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a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700" spc="-1" strike="noStrike">
                <a:solidFill>
                  <a:srgbClr val="862110"/>
                </a:solidFill>
                <a:latin typeface="Times New Roman"/>
              </a:rPr>
              <a:t>EXEMPLE ITEMI OBIECTIVI</a:t>
            </a:r>
            <a:br>
              <a:rPr sz="2700"/>
            </a:br>
            <a:r>
              <a:rPr b="1" lang="vi-VN" sz="2700" spc="-1" strike="noStrike">
                <a:solidFill>
                  <a:srgbClr val="862110"/>
                </a:solidFill>
                <a:latin typeface="Times New Roman"/>
              </a:rPr>
              <a:t>TEORIA ŞI PRACTICA INSTRUIRII ŞI EVALUĂRI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50920" y="1600200"/>
            <a:ext cx="83534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i de tip pereche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upu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rea unor corespondenţe/ asociaţii între cuvinte, propoziţii, fraze, litere sau alte categorii de simboluri dispuse pe două coloan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403280" y="3716280"/>
          <a:ext cx="6624720" cy="1800360"/>
        </p:xfrm>
        <a:graphic>
          <a:graphicData uri="http://schemas.openxmlformats.org/drawingml/2006/table">
            <a:tbl>
              <a:tblPr/>
              <a:tblGrid>
                <a:gridCol w="2773440"/>
                <a:gridCol w="3851280"/>
              </a:tblGrid>
              <a:tr h="412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bservarea sistematic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etodă alternativă de evalu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12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ba scris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11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utoevaluare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etodă tradiţională  de evalu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63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versaţ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23640" y="1600200"/>
            <a:ext cx="82803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olicită elevului să construiască total sau parţial răspunsul la sarcina definită în itemi. Sunt, de regulă, itemi de completare (gen propoziţie lacunară) sau itemi de ordonare. Sunt o combinaţie între itemii obiectivi şi cei cu răspuns deschis (construit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Times New Roman"/>
              </a:rPr>
              <a:t>Itemi cu răspuns scu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zaţi care sunt care sunt categoriile şi subcategoriile de item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i de completa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ele alternative de evaluare sunt: ..................., ................., ........................., ......................., ..............................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7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EXEMPLE ITEMI </a:t>
            </a:r>
            <a:r>
              <a:rPr b="1" lang="en-US" sz="27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SEMI</a:t>
            </a:r>
            <a:r>
              <a:rPr b="1" lang="vi-VN" sz="27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OBIECTIVI</a:t>
            </a:r>
            <a:br>
              <a:rPr sz="2700"/>
            </a:br>
            <a:r>
              <a:rPr b="1" lang="vi-VN" sz="2700" spc="-1" strike="noStrike">
                <a:solidFill>
                  <a:srgbClr val="862110"/>
                </a:solidFill>
                <a:latin typeface="Times New Roman"/>
              </a:rPr>
              <a:t>TEORIA ŞI PRACTICA INSTRUIRII ŞI EVALUĂRI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250560" y="1600200"/>
            <a:ext cx="8281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Times New Roman"/>
              </a:rPr>
              <a:t>Itemi cu răspuns structurat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întrebare structurată este formată din mai multe subîntrebări de tip obiectiv, semiobiectiv sau minieseu, legate între ele printr-un element comu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rea- parte integrant</a:t>
            </a:r>
            <a:r>
              <a:rPr b="0" i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rocesului instructiv- educativ. Repere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Definirea procesului în raport cu predarea- înv</a:t>
            </a:r>
            <a:r>
              <a:rPr b="0" i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ţ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Funcţi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Operaţi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7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EXEMPLE ITEMI </a:t>
            </a:r>
            <a:r>
              <a:rPr b="1" lang="en-US" sz="27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SEMI</a:t>
            </a:r>
            <a:r>
              <a:rPr b="1" lang="vi-VN" sz="27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OBIECTIVI</a:t>
            </a:r>
            <a:br>
              <a:rPr sz="2700"/>
            </a:br>
            <a:r>
              <a:rPr b="1" lang="vi-VN" sz="2700" spc="-1" strike="noStrike">
                <a:solidFill>
                  <a:srgbClr val="862110"/>
                </a:solidFill>
                <a:latin typeface="Times New Roman"/>
              </a:rPr>
              <a:t>TEORIA ŞI PRACTICA INSTRUIRII ŞI EVALUĂRI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24000" y="1628640"/>
            <a:ext cx="8496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icită un răspuns deschis. Sunt destinaţi activării creativităţii, originalităţii şi posibilităţilor elevului de a transfera cunoştinţ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i tip “rezolvare de probleme”,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e determină confruntarea elevului cu o situaţie nouă, inedită, pentru care el trebuie să găsească soluţia, să aleagă strategia de lucru şi să le rezolve singur, pe baza achiziţiilor anterioare şi a experienţei sa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i tip „eseu liber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pune elevul în situaţia de a construi un răspuns liber în conformitate cu un set dat de cerinţ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i tip „eseu structurat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7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EXEMPLE ITEMI </a:t>
            </a:r>
            <a:r>
              <a:rPr b="1" lang="en-US" sz="27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SUBIECTIVI</a:t>
            </a:r>
            <a:br>
              <a:rPr sz="2700"/>
            </a:br>
            <a:r>
              <a:rPr b="1" lang="vi-VN" sz="2700" spc="-1" strike="noStrike">
                <a:solidFill>
                  <a:srgbClr val="862110"/>
                </a:solidFill>
                <a:latin typeface="Times New Roman"/>
              </a:rPr>
              <a:t>TEORIA ŞI PRACTICA INSTRUIRII ŞI EVALUĂRI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23640" y="1600200"/>
            <a:ext cx="82803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Matricea de specificaţii reprezintă o punte de legătură între obiective, conţinuturi, şi evaluar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Matricea de specificaţii constă într-un tabel cu două intrări care serveşte la proiectarea şi organizarea itemilor dintr-un test docimologic în care sunt precizate, pe de o parte, conţinuturile care vor fi vizate şi, pe de altă parte, nivelele taxonomice la care se plasează obiectivele de evalua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Title 1"/>
          <p:cNvSpPr/>
          <p:nvPr/>
        </p:nvSpPr>
        <p:spPr>
          <a:xfrm>
            <a:off x="468360" y="260280"/>
            <a:ext cx="74674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DELIMITĂRI CONCEPTU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764640"/>
            <a:ext cx="746748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MATRICEA DE SPECIFICAŢI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5" descr=""/>
          <p:cNvPicPr/>
          <p:nvPr/>
        </p:nvPicPr>
        <p:blipFill>
          <a:blip r:embed="rId1"/>
          <a:stretch/>
        </p:blipFill>
        <p:spPr>
          <a:xfrm>
            <a:off x="2340000" y="44280"/>
            <a:ext cx="4840200" cy="68454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"/>
          <p:cNvPicPr/>
          <p:nvPr/>
        </p:nvPicPr>
        <p:blipFill>
          <a:blip r:embed="rId2"/>
          <a:stretch/>
        </p:blipFill>
        <p:spPr>
          <a:xfrm>
            <a:off x="900000" y="333360"/>
            <a:ext cx="847800" cy="77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250920" y="1600200"/>
            <a:ext cx="83534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Sunt criterii calitative unitare care vizează o evaluare cât mai obiectivă şi care furnizează elevilor, profesorilor şi părinţilor informaţii relevante despre nivelul performanţelor elevilo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Se stabilesc de către cadrul didactic pentru fiecare calificativ cu care se operează învăţământul primar românesc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Title 1"/>
          <p:cNvSpPr/>
          <p:nvPr/>
        </p:nvSpPr>
        <p:spPr>
          <a:xfrm>
            <a:off x="468360" y="260280"/>
            <a:ext cx="74674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DELIMITĂRI CONCEPTU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764640"/>
            <a:ext cx="746748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DESCRIPTORI DE PERFORMANŢĂ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457200" y="2060640"/>
            <a:ext cx="8143920" cy="36496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764640"/>
            <a:ext cx="746748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DESCRIPTORI DE PERFORMANŢĂ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900000" y="189000"/>
            <a:ext cx="691200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Categorii taxonomice- Bloo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5" descr="C:\Users\Flori\Desktop\Untitled.png"/>
          <p:cNvPicPr/>
          <p:nvPr/>
        </p:nvPicPr>
        <p:blipFill>
          <a:blip r:embed="rId1"/>
          <a:stretch/>
        </p:blipFill>
        <p:spPr>
          <a:xfrm>
            <a:off x="1727280" y="1341360"/>
            <a:ext cx="525780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ACTIVITATE PE GRUP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8000" y="2349000"/>
            <a:ext cx="3538440" cy="27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00"/>
                </a:solidFill>
                <a:latin typeface="Times New Roman"/>
              </a:rPr>
              <a:t>Realizaţi o hartă conceptuală, pornind de la conţinutul ştiinţific prezentat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7" name="Picture 4" descr=""/>
          <p:cNvPicPr/>
          <p:nvPr/>
        </p:nvPicPr>
        <p:blipFill>
          <a:blip r:embed="rId1"/>
          <a:stretch/>
        </p:blipFill>
        <p:spPr>
          <a:xfrm>
            <a:off x="4211640" y="1841400"/>
            <a:ext cx="438624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3640" y="1600200"/>
            <a:ext cx="2921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00"/>
                </a:solidFill>
                <a:latin typeface="Times New Roman"/>
              </a:rPr>
              <a:t>Realizaţi un tip de item, la o disciplină la alegere, corelându-l cu o competenţă specifică  învăţământului prima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ACTIVITATE INDIVIDUALĂ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0" name="Picture 4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37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"/>
          <p:cNvSpPr/>
          <p:nvPr/>
        </p:nvSpPr>
        <p:spPr>
          <a:xfrm>
            <a:off x="324000" y="189000"/>
            <a:ext cx="8208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ograf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Cerghit, I. T. Radu, E. Popescu, L. Vlăsceanu, </a:t>
            </a: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actica, man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pentru clasa a X-a- şcoli normale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DP, Bucureşti,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 Ionescu, M. Bocoş, </a:t>
            </a: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tat de didactică modern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ditura Paralele 45, Piteşti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. M. Gavrilă, M. Nicolae, </a:t>
            </a: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-u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orilor grafici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PH, Bucureşti,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 Manolescu, </a:t>
            </a: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rea şcolară- metode, tehnici, instrumente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ditura Meteor Press, Bucureşti, 200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 T. Radu, </a:t>
            </a: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rea în procesul didactic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DP, Bucureşti, 2004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 şcolară pentru Disciplipele Pedagogice şi Psihologice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ucureşti,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4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6678720" cy="62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MORIŞCA LUI BLOOM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Content Placeholder 3" descr=""/>
          <p:cNvPicPr/>
          <p:nvPr/>
        </p:nvPicPr>
        <p:blipFill>
          <a:blip r:embed="rId1"/>
          <a:stretch/>
        </p:blipFill>
        <p:spPr>
          <a:xfrm>
            <a:off x="1986120" y="1123920"/>
            <a:ext cx="51717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179280" y="649440"/>
            <a:ext cx="8496360" cy="612108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  <p:sp>
        <p:nvSpPr>
          <p:cNvPr id="358" name="Rectangle 3"/>
          <p:cNvSpPr/>
          <p:nvPr/>
        </p:nvSpPr>
        <p:spPr>
          <a:xfrm>
            <a:off x="539640" y="260280"/>
            <a:ext cx="7777440" cy="2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862110"/>
                </a:solidFill>
                <a:latin typeface="Times New Roman"/>
              </a:rPr>
              <a:t>Taxonomia </a:t>
            </a:r>
            <a:r>
              <a:rPr b="1" lang="en-US" sz="2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r</a:t>
            </a:r>
            <a:r>
              <a:rPr b="1" lang="vi-VN" sz="2000" spc="-1" strike="noStrike">
                <a:solidFill>
                  <a:srgbClr val="862110"/>
                </a:solidFill>
                <a:latin typeface="Times New Roman"/>
              </a:rPr>
              <a:t>evizuită a lui Bloom </a:t>
            </a:r>
            <a:r>
              <a:rPr b="1" lang="en-US" sz="2000" spc="-1" strike="noStrike">
                <a:solidFill>
                  <a:srgbClr val="862110"/>
                </a:solidFill>
                <a:latin typeface="Century Schoolbook"/>
              </a:rPr>
              <a:t>- categorii de ver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64072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TESTUL DOCIMOLOGIC- CARACTERISTICI, ETAPE ÎN ELABORARE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8360" y="1773360"/>
            <a:ext cx="8207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Cuvinte cheie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000" spc="-1" strike="noStrike">
                <a:solidFill>
                  <a:srgbClr val="000000"/>
                </a:solidFill>
                <a:latin typeface="Times New Roman"/>
              </a:rPr>
              <a:t>test docimologic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000" spc="-1" strike="noStrike">
                <a:solidFill>
                  <a:srgbClr val="000000"/>
                </a:solidFill>
                <a:latin typeface="Times New Roman"/>
              </a:rPr>
              <a:t>item pedagogic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000" spc="-1" strike="noStrike">
                <a:solidFill>
                  <a:srgbClr val="000000"/>
                </a:solidFill>
                <a:latin typeface="Times New Roman"/>
              </a:rPr>
              <a:t>matrice de specificaţii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000" spc="-1" strike="noStrike">
                <a:solidFill>
                  <a:srgbClr val="000000"/>
                </a:solidFill>
                <a:latin typeface="Times New Roman"/>
              </a:rPr>
              <a:t>descriptori de performanţă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4674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DELIMITĂRI CONCEPTUA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50920" y="1600200"/>
            <a:ext cx="8424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Times New Roman"/>
              </a:rPr>
              <a:t>test care îndeplineşte o funcţie docimologică- de examinare şi notare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Times New Roman"/>
              </a:rPr>
              <a:t>este un instrument de verificare cu o structură şi însuşiri specifice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Times New Roman"/>
              </a:rPr>
              <a:t>poate fi o probă orală sau practică, dar de cele mai multe ori este o probă scrisă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Title 1"/>
          <p:cNvSpPr/>
          <p:nvPr/>
        </p:nvSpPr>
        <p:spPr>
          <a:xfrm>
            <a:off x="685800" y="836640"/>
            <a:ext cx="74674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TESTUL DOCIMO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AVANTAJE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94920" y="1052280"/>
            <a:ext cx="8147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obiectivitate sporită (datorită corelării intrinseci între obiectivele didactice, conţinuturile învăţării şi itemii testului)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rigurozitate în măsurarea achiziţiilor elevului şi în aprecierea modului de rezolvare a itemilor/ probelor conţinute în test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dezvoltă capacitatea de autoevaluare la şcolari, în măsura în care aceştia pot verifica singuri corectitudinea modului de rezolvare a itemilor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oferă, prin rezultatul lor, posibilitatea adoptării de decizii, oportune şi în timp util, destinate ameliorării actului didactic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56840" y="1600200"/>
            <a:ext cx="82184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500" spc="-1" strike="noStrike">
                <a:solidFill>
                  <a:srgbClr val="000000"/>
                </a:solidFill>
                <a:latin typeface="Times New Roman"/>
              </a:rPr>
              <a:t>se elaborează greu, efortul pentru realizarea lor fiind relativ mare datorită complexităţii itemilor şi cuantificării diferenţiate a acestora (punctaje maxim şi minim);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500" spc="-1" strike="noStrike">
                <a:solidFill>
                  <a:srgbClr val="000000"/>
                </a:solidFill>
                <a:latin typeface="Times New Roman"/>
              </a:rPr>
              <a:t>consumă timp;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500" spc="-1" strike="noStrike">
                <a:solidFill>
                  <a:srgbClr val="000000"/>
                </a:solidFill>
                <a:latin typeface="Times New Roman"/>
              </a:rPr>
              <a:t>inhibă elevii emotivi (sensibili).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Title 1"/>
          <p:cNvSpPr/>
          <p:nvPr/>
        </p:nvSpPr>
        <p:spPr>
          <a:xfrm>
            <a:off x="468360" y="623880"/>
            <a:ext cx="74674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DEZAVANT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ELABORAREA TESTULUI DOCIMOLOGIC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78920" y="134136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tap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500" spc="-1" strike="noStrike">
                <a:solidFill>
                  <a:srgbClr val="000000"/>
                </a:solidFill>
                <a:latin typeface="Times New Roman"/>
              </a:rPr>
              <a:t>stabilirea obiectivelor </a:t>
            </a:r>
            <a:r>
              <a:rPr b="0" lang="vi-VN" sz="2500" spc="-1" strike="noStrike">
                <a:solidFill>
                  <a:srgbClr val="000000"/>
                </a:solidFill>
                <a:latin typeface="Times New Roman"/>
              </a:rPr>
              <a:t>urmărite;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500" spc="-1" strike="noStrike">
                <a:solidFill>
                  <a:srgbClr val="000000"/>
                </a:solidFill>
                <a:latin typeface="Times New Roman"/>
              </a:rPr>
              <a:t>stabilirea materiei </a:t>
            </a:r>
            <a:r>
              <a:rPr b="0" lang="vi-VN" sz="2500" spc="-1" strike="noStrike">
                <a:solidFill>
                  <a:srgbClr val="000000"/>
                </a:solidFill>
                <a:latin typeface="Times New Roman"/>
              </a:rPr>
              <a:t>(teme, capitole, grup de lecţii etc.) din care se va susţine testarea;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500" spc="-1" strike="noStrike">
                <a:solidFill>
                  <a:srgbClr val="000000"/>
                </a:solidFill>
                <a:latin typeface="Times New Roman"/>
              </a:rPr>
              <a:t>elaborarea itemilor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500" spc="-1" strike="noStrike">
                <a:solidFill>
                  <a:srgbClr val="000000"/>
                </a:solidFill>
                <a:latin typeface="Times New Roman"/>
              </a:rPr>
              <a:t>cuantificarea testului </a:t>
            </a:r>
            <a:r>
              <a:rPr b="0" lang="vi-VN" sz="2500" spc="-1" strike="noStrike">
                <a:solidFill>
                  <a:srgbClr val="000000"/>
                </a:solidFill>
                <a:latin typeface="Times New Roman"/>
              </a:rPr>
              <a:t>(atribuirea punctajelor: maxim specific şi minim acceptat; echivalarea în note/calificative);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500" spc="-1" strike="noStrike">
                <a:solidFill>
                  <a:srgbClr val="000000"/>
                </a:solidFill>
                <a:latin typeface="Times New Roman"/>
              </a:rPr>
              <a:t>organizarea testului </a:t>
            </a:r>
            <a:r>
              <a:rPr b="0" lang="vi-VN" sz="2500" spc="-1" strike="noStrike">
                <a:solidFill>
                  <a:srgbClr val="000000"/>
                </a:solidFill>
                <a:latin typeface="Times New Roman"/>
              </a:rPr>
              <a:t>(înştiinţarea elevilor, prezentarea instrucţiunilor de lucru, precizarea timpului de execuţie, asigurarea condiţiilor de aplicare a testului);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500" spc="-1" strike="noStrike">
                <a:solidFill>
                  <a:srgbClr val="000000"/>
                </a:solidFill>
                <a:latin typeface="Times New Roman"/>
              </a:rPr>
              <a:t>aplicarea testului</a:t>
            </a:r>
            <a:r>
              <a:rPr b="0" lang="vi-VN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500" spc="-1" strike="noStrike">
                <a:solidFill>
                  <a:srgbClr val="000000"/>
                </a:solidFill>
                <a:latin typeface="Times New Roman"/>
              </a:rPr>
              <a:t>notarea rezultatelor obţinute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3T05:33:13Z</dcterms:created>
  <dc:creator>HSH</dc:creator>
  <dc:description/>
  <dc:language>en-US</dc:language>
  <cp:lastModifiedBy>Flori</cp:lastModifiedBy>
  <dcterms:modified xsi:type="dcterms:W3CDTF">2017-04-02T10:28:46Z</dcterms:modified>
  <cp:revision>109</cp:revision>
  <dc:subject/>
  <dc:title>Slide 1</dc:title>
</cp:coreProperties>
</file>