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B98-A0DA-429C-A361-9E815459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DED-7C7F-442E-899B-6F7FB514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5CE0-761A-43DE-AF45-93FFA095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FBD-75B2-48FB-8A5E-BEA8DF23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2898-A0DD-4E31-855A-6F9A8A7F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2663-B6F3-4A97-8D65-35A78998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0C2C-CD89-48E2-A797-832934FC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D0C6-A61F-45F4-AEA0-5B596790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DB0D-5D9C-4CCB-803B-727A06DA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AEA7-1E21-437B-BFAF-3C919786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A9D7-1104-4F2D-B1A2-9C282AFB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9F8-DF12-4495-BC93-0E9FA7B0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448E-54D2-4C5C-8FC5-04F9658B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04EF-F6D0-4F4B-A73E-39135B78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B9B0-D1D8-4E59-86B7-3A3B016B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94E3-90C3-47A9-98EB-75A1F1B7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7BDB-E6E6-4C3C-9E3B-45B75B05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81DBA-0630-4D71-9390-C500CDBD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B15A-4958-4D31-A0ED-15F88B5E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F7DEB-FD37-49DE-AE0E-D5E9AFB8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8C9DC-6809-4477-9B06-70A41EEF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01B1-91D5-4C44-B2F0-C19062BC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521-18A3-4B4C-9917-BBC24A5F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6E4C-D521-4785-9AB9-FCBE48D4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5F20E-14B2-4DB3-B9A5-BB178FFD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DCF06-62F5-4BF4-9135-4174ECA5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9A519-863B-47F7-B318-53747CB5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F7DFC-93B6-4776-B744-7D8C98A4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BE075-3F1D-466B-ABF5-63AEE67B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670A-F3E9-44B9-97C3-58CC6F55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4D2A6-8DC6-40B3-A1C1-3B9EBF0C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C995-7E74-44E1-9EEE-3411C627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F300-0666-4779-A6A4-476AFF1F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47F-A2DD-401D-9189-508ACB8B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F46E0-5B4B-4CFE-B17D-368A7A75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336B-4F42-4F78-A27F-1C06B22F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701A3-3EE9-40DB-8180-C02A9416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F6C94-2F87-4643-8C93-966DC2B5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C0A94-4216-4A2E-9029-27E71936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887D9-0B2A-4191-8E9B-E72418E7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D20CD-07FB-4ABB-9565-8CE110BC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8DE7E-F3AF-4618-8105-CB6A811F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A9E81-2ED9-4823-8C64-EA68B980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A81CB-6320-4A50-BAEE-5B439095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112-6C43-412F-9462-9CF5AE8A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CAFB3-3B3C-4261-AD1E-F4A64A39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D2715-5963-47A9-B37D-ACF5EC6D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BF10E-B87A-4F55-8674-7B2614BF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7E502-6CDB-4701-9D72-26EE16A5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D053E-7223-4F85-AA49-33023713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63602-6035-45E2-A77A-145A6833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45F2D-E479-4DF4-90A7-7A7C6D0D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61261-E2D8-46B3-B0DE-7F749D4E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F1F31-751F-434B-A05C-006324EA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15D3B-39AF-4328-AA70-96F48749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A27-59A2-4824-B84F-68E29512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87B3B-779D-46BA-BA1E-9A81D4A1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39BF6-C1E0-4485-8742-62F0DE28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FF0CD-A40C-4395-A0B0-B8AD9DF9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8A953-F189-4673-AA74-2568B567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EECFE-7930-40AF-943C-8E099C94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D2923-3E15-45A0-AD1E-F396E369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C087E-64B2-4607-B41D-2EBDECFF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53272-ED22-4AD8-B8EE-CFBB2713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54EA8-3682-4B33-936A-A9AA5B0B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00BC6-5228-4C33-8544-4D58CF65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7CD-0708-4048-AEE7-B2762445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095C8-0A28-417B-AC78-65D9F71B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E4696-F8CA-48C4-81CD-3FD7B6BF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2DFC8-9E50-4531-8387-598E4899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2F019-7A84-4A7C-8986-3F55E412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53D6C-00BB-4E65-AD6E-A1215B3B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6C88F-7D70-457B-90B9-9E3C5117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89DAC-65F6-4331-B7D0-457B5002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6FD05-D214-4F0A-9419-72A2BCCF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91B35-A0D6-4C22-858F-283C511B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79368-E87A-4DA7-A4CF-17CAEAAE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158-373C-4F09-9514-DE51562F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2A36B-0D8A-47F9-802B-9309DBD6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6D3E7-6251-465E-BA07-BA9F5DBC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8F29D-669C-4EB0-A214-62F377F9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8AA26-436D-4338-82C0-643988EE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591F3-96EE-4154-B4D0-AE34421C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59A20-A09E-4002-8AF0-E6A73C6D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4DF61-1D4D-4EDA-86C1-C9EC8A45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673A5-24D4-405F-945F-E03006EB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B52EB-3B3C-45F1-8E5F-69393707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8A735-4952-4FCB-B74A-E2D59576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FCD-D9D1-4AD4-9AB6-85A1E3EB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44CA2-F1DD-49E9-9CBD-84BE1156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76806-2E53-4E0F-9FE1-A41CAC7D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D1631-4E17-4447-924E-8F8D3860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F4183-1ABF-4FD6-9AD9-F3A28E20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469B0-7C8C-4EBA-8B56-5FD8A63B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FC0F4-F25F-4593-B0C3-74F08C87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A03BA-5D88-4B35-B01B-C56AE3E7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7DA2-BA3B-48AF-A52E-C1982B0292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1FB4-2004-493A-A2A2-C2F82DC42E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78F0-AC16-414B-A3D7-363A5601CD5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62F0-1B80-42A6-BC41-7B4DBEC67E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D993-454D-4C46-B963-F787D8F32D6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213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14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216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0E88-E0B2-4041-A85B-21A469B3CDE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F793-7399-44DA-9B8B-C95FEE5DA64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6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7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E643-5831-4564-A186-2E9B1763154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Users/GEELOO/AppData/Local/Temp/Temp1_Portofolii.zip/fisa%20postului.doc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600200" y="43430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LATIN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5</a:t>
            </a:r>
            <a:r>
              <a:rPr b="1" lang="ro-RO" sz="2800" spc="-1" strike="noStrike">
                <a:solidFill>
                  <a:srgbClr val="696464"/>
                </a:solidFill>
                <a:latin typeface="Perpetua"/>
              </a:rPr>
              <a:t>-</a:t>
            </a:r>
            <a:r>
              <a:rPr b="1" lang="ro-RO" sz="2800" spc="-1" strike="noStrike">
                <a:solidFill>
                  <a:srgbClr val="696464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1" lang="ro-RO" sz="2800" spc="-1" strike="noStrike">
                <a:solidFill>
                  <a:srgbClr val="696464"/>
                </a:solidFill>
                <a:latin typeface="Perpetua"/>
              </a:rPr>
              <a:t>SEPTEMBRIE 201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C566-646F-4599-A2E6-C8D49890358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2f2f2"/>
                </a:solidFill>
                <a:latin typeface="Franklin Gothic Book"/>
              </a:rPr>
              <a:t>CONSFĂTUIRILE NAŢIONALE </a:t>
            </a:r>
            <a:br>
              <a:rPr sz="2800"/>
            </a:br>
            <a:r>
              <a:rPr b="0" lang="ro-RO" sz="2800" spc="-1" strike="noStrike">
                <a:solidFill>
                  <a:srgbClr val="f2f2f2"/>
                </a:solidFill>
                <a:latin typeface="Franklin Gothic Book"/>
              </a:rPr>
              <a:t>ALE INSPECTORILOR </a:t>
            </a:r>
            <a:r>
              <a:rPr b="0" lang="en-US" sz="2800" spc="-1" strike="noStrike">
                <a:solidFill>
                  <a:srgbClr val="f2f2f2"/>
                </a:solidFill>
                <a:latin typeface="Franklin Gothic Book"/>
              </a:rPr>
              <a:t> </a:t>
            </a:r>
            <a:r>
              <a:rPr b="0" lang="ro-RO" sz="2800" spc="-1" strike="noStrike">
                <a:solidFill>
                  <a:srgbClr val="f2f2f2"/>
                </a:solidFill>
                <a:latin typeface="Franklin Gothic Book"/>
              </a:rPr>
              <a:t>ȘCOLARI </a:t>
            </a:r>
            <a:br>
              <a:rPr sz="2800"/>
            </a:br>
            <a:r>
              <a:rPr b="0" lang="ro-RO" sz="2800" spc="-1" strike="noStrike">
                <a:solidFill>
                  <a:srgbClr val="f2f2f2"/>
                </a:solidFill>
                <a:latin typeface="Arial"/>
              </a:rPr>
              <a:t>PENTRU</a:t>
            </a:r>
            <a:br>
              <a:rPr sz="2800"/>
            </a:br>
            <a:r>
              <a:rPr b="0" lang="en-US" sz="2800" spc="-1" strike="noStrike">
                <a:solidFill>
                  <a:srgbClr val="f2f2f2"/>
                </a:solidFill>
                <a:latin typeface="Franklin Gothic Book"/>
              </a:rPr>
              <a:t>LIMBI MODERN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de activităţi metodico-ştiinţifice ale catedrei pentru anul școlar  în curs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şcolare valabile în anul şcolar în curs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pentru examenele naţionale (bacalaureat) şi concursurile şcolare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ificări le calendaristice ale membrilor catedrei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rile 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dru pentru anul şcolar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spectiv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abel  nominal cu membrii catedrei şi datele lor personale (telefon, adresa de e-mail, şcoala de provenienţă, grad didactic, specialitatea, vechimea în învăţământ etc.)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managerial al catedrei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şi tematica activităţilor de catedră.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– verbale ale şedinţelor de catedră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atedră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RESPONSABILULUI</a:t>
            </a: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 DE CERC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şcolilor arondate cercului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de activități al şefului cercului metodic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ematica şedinţelor de cerc, data şi locul de desfăşur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-verbale încheiate la activităţile de cer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erc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D30A-8670-43A5-83DF-1737C38E008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PORTOFOLIUL PROFESORULUI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ubstituent număr diapozitiv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D241-D067-492C-BC0D-5CB0B5343B7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(pentru profesorii debutanți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8397-D569-4254-866B-686A8B358C3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perfecțion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/formare în domeniul discipline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6E36-EBCD-4D34-9A3E-9B92B1E9D7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PORTOFOLIUL ELEVULUI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696464"/>
                </a:solidFill>
                <a:uFillTx/>
                <a:latin typeface="Franklin Gothic Book"/>
              </a:rPr>
              <a:t>PORTOFOLIUL ELEVULU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 Narrow"/>
              </a:rPr>
              <a:t>Portofoliul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prezintă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“acord”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de învăţare ale elevului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96464"/>
                </a:solidFill>
                <a:latin typeface="Arial Narrow"/>
              </a:rPr>
              <a:t>Portofoliul cuprinde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440" y="1523520"/>
            <a:ext cx="8001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conţinutului acestu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(sumarul, care include titlul fiecărei lucrări/fişe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etc. şi numărul paginii la care se găseşte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ucrările pe care le face elevul individual sau în grup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rezuma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eseuri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rticole, referate, comunicări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fişe individuale de studiu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iecte şi experimen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emele ziln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probleme rezolvat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apoarte scrise – de realizare a proiectelo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teste şi lucrări semestrial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hestionare de atitudin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înregistrări, fotografii care reflectă activitatea desfăşurată de elev individual sau împreună cu colegii să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observaţii pe baza unor ghiduri de observaţi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flecţiile proprii ale elevului asupra a ceea ce lucrează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autoevaluări scrise de elev sau de membrii grupulu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interviuri de evaluar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alte materiale, hărţi cognitive, contribuţii la activitate care reflectă participarea elevului/ grupului la derularea şi soluţionarea temei dat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7B0C-F677-43D4-99A8-FE5D7C61DB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erpetua"/>
              </a:rPr>
              <a:t>PORTOFOLIUL INSPECTORULUI </a:t>
            </a:r>
            <a:r>
              <a:rPr b="1" lang="ro-RO" sz="4800" spc="-1" strike="noStrike">
                <a:solidFill>
                  <a:srgbClr val="000000"/>
                </a:solidFill>
                <a:latin typeface="Perpetua"/>
              </a:rPr>
              <a:t>ȘCOLAR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PENTRU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Perpetua"/>
              </a:rPr>
              <a:t>LIMBI MODERNE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A894-9049-4CB6-921C-92AF6195A51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obiective viitoare pornind de la realizările curente ale elevului/grupului, pe baza intereselor şi a progreselor înregistrat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omentarii suplimentare şi evaluări ale profesorului, ale altor grupuri de învăţare şi/sau ale altor părţi interesate, de exemplu părinţi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zultate ale lucrărilor de evaluare efectuate pentru teme din domeniul profesional sau abilităţi chei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zultate ale activităţilor de autoevaluare şi dovezi ale discuţiilor care au avut lo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opiniile elevilor privind activităţile desfăşura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planuri de acţiune/ evaluări/ activităţi viitoare planificate şi efectuate de către elev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omentarii ale profesorului privind atitudinea şi rezultatele elevulu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ubstituent număr diapozitiv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E0B4-20E5-4539-9F18-E2182C53100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SUCCES TUTURO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ÎN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 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ANUL ȘCOL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 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201</a:t>
            </a:r>
            <a:r>
              <a:rPr b="1" lang="en-US" sz="2800" spc="-1" strike="noStrike">
                <a:solidFill>
                  <a:srgbClr val="cc9900"/>
                </a:solidFill>
                <a:latin typeface="Georgia"/>
              </a:rPr>
              <a:t>7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-201</a:t>
            </a:r>
            <a:r>
              <a:rPr b="1" lang="en-US" sz="2800" spc="-1" strike="noStrike">
                <a:solidFill>
                  <a:srgbClr val="cc9900"/>
                </a:solidFill>
                <a:latin typeface="Georgia"/>
              </a:rPr>
              <a:t>8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o-RO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Structura portofoliului/mapei inspectorului școlar pentru limbi moderne -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ocumente normative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ocumente manageriale, baze date, document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specifice disciplinei: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Substituent număr diapozitiv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168F-F7A2-4D1D-BA83-B396AD382C1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Fişa postului operaţionalizată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 Narrow"/>
                <a:hlinkClick r:id="rId1"/>
              </a:rPr>
              <a:t>fisa postului.do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urriculum Vitae Europas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iagnoza disciplinei……; Starea disciplinei……, în anul şcolar….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noza, realizată de Consiliul Consultativ al profesorilor de limbi modern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 manageriale anuale şi semestrial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anual şi semestrial al inspecţiei şcolare, corelat cu Graficul unic de inspecţie şcolară al Inspectoratului Şcolar Județean..../al Municipiului București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Rapoarte periodic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lunare, semestriale, anuale (Fişa săptămânală/lunară de raportare a inspectorului şcolar de limbi moderne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ubstituent număr diapozitiv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5D74-50E3-4108-BB77-1809ACF59D7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onsiliul Consultativ al profesorilor de limbi moderne (componenţa şi atribuții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profesorilor metodişti şi a sarcinilor delegate (criterii de selecţie, vechime în învăţământ, gradul didactic, competenţă profesională dobândită prin studii şi activitatea didactică; CV-urile acestora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Evidenţa distribuţiei şi a realizării de căt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fesorii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etodişti a activităţii de  inspecţie şcolară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ortofoliul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fesorilor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etodişti (conţinut şi fişa de evaluare a acestora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şefilor de catedră /comisie metodică/persoană de contact la specialitatea…..în unităţile de învăţământ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tribuţiile cadrului didactic - şef de catedră /comisie metodică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ocumentele de proiectare, organizare şi desfăşurare a activităţii catedrelor/comisiilor metod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ortofoliul profesorului de (specialitatea)…..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0B94-03AA-498D-B57E-17195C77903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cadrelor didactice - formatori naţionali şi locali; evaluatori DEL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E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SD, ÖSD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responsabililor cercurilor pedagogice; evidenţa problemelor ridicate la activităţile cercurilor pedagog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activităţilor metodice, ştiinţifice şi de formare continuă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(axat pe obiective specifice, corect elaborate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ontribuţii personale şi de grup în cercetarea ameliorativă a problemelor specialităţi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Implicarea în acţiuni metodice şi de perfecţionare organizate cu cadrele didactice în colaborare cu diferite instituţii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Instrumente, indicatori, criterii utilizate şi acţiuni specifice desfăşura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9229-FE34-46B4-A3B7-8A775A060EB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533520"/>
            <a:ext cx="815328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Evaluări realizate în vederea acordării gradaţiei de merit, a participării la concursuri şi alte acţiuni similare/cursuri de formare în didactica disciplinei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Modalități de monitoritorizare și acordare consultanță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Rezultate deosebite ale cadrelor didactice şi ale elevilor în procesul de învăţare şi la concursurile şcolare; acţiuni de recompensare, ameliorare şi reglare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Lista cursurilor opţionale şi avizarea lor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Evidenţa manualelor şcolare existente în catalog la disciplina...... 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Lista membrilor ARPF/ale altor asociaţii profesionale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Fişa anuală de evaluare a inspectorului şcolar pentru limbi moderne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Calendarul examenelor naționale și al activităţilor organizate cu ocazia Zilei Europene a Limbilor (26 septembrie) şi a Francofoniei (20 martie)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Perpetua"/>
              </a:rPr>
              <a:t>PORTOFOLIUL </a:t>
            </a: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PROFESORULUI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METODIS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DC86-9AA9-4840-BEF0-D51CA775808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iz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e numire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/ Delegaț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urriculum Vitae(Europass).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de evidenţă a inspecţiilor efectua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inspecţiilor de specialitate şi temat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iagnoza procesului de învăţământ de specialitate (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î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 sectorul/zona arondat(ă), la finele fiecărui semestru);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opie a rapoartelor de inspecţi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odele de documente de planificare şi proiect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r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idactic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ă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a nivelul învăţământului primar, gimnazial şi liceal, după caz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gi, ordine,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H.G-uri,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ote ale M.E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.,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uvernului  privind  învăţământul preuniversit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lul formularelor tip folosite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 cadrul inspecţiil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RESPONSABILULU</a:t>
            </a: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I DE CATEDRĂ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Luminita Stoian</cp:lastModifiedBy>
  <dcterms:modified xsi:type="dcterms:W3CDTF">2017-09-04T04:48:49Z</dcterms:modified>
  <cp:revision>618</cp:revision>
  <dc:subject/>
  <dc:title>Comisia Nationala de Informatica</dc:title>
</cp:coreProperties>
</file>