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1A8-A8A7-4362-A745-30399256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B26-67AC-4163-BCD4-F505EDDA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35D-9D40-48DB-A275-F9EB79FF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DCC-BE1C-46F6-890F-9BDE3496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E6B8-C967-4B23-B666-452ABE50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6582-FCCF-402C-A79E-EA3B868F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C55D-5CB1-4300-9CBA-7876C7CD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65DF-77B6-44FA-81C2-67C90D52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8FB4-EB06-4258-8FAC-DDDB59D4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1A40-87CA-43C3-AD6B-69DBC87D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9CD4-7824-412C-9CA5-4EEBCD4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45A-EADA-4D2D-BFCA-C63B21DE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1EDD-E33A-4C77-8DCB-13021FB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6998-BCB1-45A2-869D-F8134F7F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07CF-1F05-4FE7-A19D-BD29B959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F6D6-41CA-4E8E-B1D3-6B803A04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B3C5-236B-45CB-9267-5884D316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BF26-1511-44FE-9B8B-F5FEC73B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3982-97A7-483D-AECE-98D640EC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2F68-FCC9-48D3-AEF4-2FF5B50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A384-F770-4289-A75B-6217321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E999-5A59-41B7-ADD7-3AB365E8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560-63FA-45E7-9E2F-9EEAF170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FA8B-84B5-4830-BB4F-66E037F6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5F44-730D-411C-B4A8-D058B61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EE85-DE4B-444A-9087-37F43C2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A370-1916-4DBE-96BD-9F2925BD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284D-CB77-4AC9-9FFD-1700C929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3C1E-3B25-430D-9D8B-1BFE451F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7C99-90AB-4009-AAAD-8F2A3FA9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6CEB-44A6-4839-BEBB-30A39D88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61ED-C7B6-405C-99C1-BAB2AC3C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3749-F289-4B75-8B3D-DCEB56CF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50D-5707-40F1-BD13-ACE702F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AEEA-8B1C-44EF-B704-E0B00E5E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6631-120E-496E-98D0-AB76D1D9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5C92-1108-4FA1-9F8B-E581A23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65DB-ABF8-461A-89B3-8DF5D2C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3E4A-1EAD-4831-BF0F-F20F328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7FEF-739A-4A93-8011-EB7E3D8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8E30-F678-4729-8E7D-546016BD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25A3-8299-4F6D-B57D-09A39F9B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8FDA9-0D02-4C24-9D5E-180BF9C4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87A-C000-4DFA-8C4D-DFDB53E5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D36-67B2-4F2F-A3CF-A6F183D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E80-AF3F-4663-8D0F-C0015FD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5C5-6E77-45C0-89FE-149ECF48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C88-C541-4F74-885C-9FE28E6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D061-A968-4F5B-B57D-D242BB140280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C483-1A06-4F93-9079-DBD767191A72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DD36-8CBD-455D-AE74-F5188BC90159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9F4D-9659-45E1-936F-41AD9A5FED7E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.ro/index.php/articles/16313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650880"/>
            <a:ext cx="7239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CONSFĂTUIRILE NAŢIONALE </a:t>
            </a:r>
            <a:br>
              <a:rPr sz="1800"/>
            </a:b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ALE INSPECTORILOR 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Ș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COLARI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 PENTRU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Diagnoza procesului educaţional din anul școlar 2016-201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404040"/>
                </a:solidFill>
                <a:latin typeface="Tahoma"/>
              </a:rPr>
              <a:t>●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Regulamentul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de inspecție a unităților de învățământ preuniversitar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O MECTS nr. 5547/6 octombrie 2011)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se poate accesa la adresa: </a:t>
            </a:r>
            <a:r>
              <a:rPr b="0" lang="ro-RO" sz="20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://www.edu.ro/index.php/articles/163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 tipuri fundamentale de inspecție a unităților de învățământ preuniversitar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școlară generală a unităților de învățământ preuniversitar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tematic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de specialita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09480" y="3808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CONSF</a:t>
            </a:r>
            <a:r>
              <a:rPr b="1" lang="ro-RO" sz="2000" spc="-1" strike="noStrike">
                <a:solidFill>
                  <a:srgbClr val="3399ff"/>
                </a:solidFill>
                <a:latin typeface="Arial"/>
              </a:rPr>
              <a:t>ĂTUIRILE ANUALE ALE INSPECTORILOR ȘCOLARI  PENTRU LIMBI MOD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295280" y="1523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Arial"/>
              </a:rPr>
              <a:t>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5-8</a:t>
            </a:r>
            <a:r>
              <a:rPr b="1" lang="en-US" sz="18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  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d) consilierea cadrului didactic inspectat în legătură cu proiectarea și utilizarea unor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e) evaluarea capacității cadrului didactic inspectat de a integra Tehnologia informației și comunicațiilor </a:t>
            </a:r>
            <a:r>
              <a:rPr b="0" i="1" lang="vi-VN" sz="2000" spc="-1" strike="noStrike">
                <a:solidFill>
                  <a:srgbClr val="404040"/>
                </a:solidFill>
                <a:latin typeface="Arial"/>
              </a:rPr>
              <a:t>(TIC) și lecțiile din cadrul Platformei de eLearning(AEL)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f) consilierea cadrului didactic inspectat în legătură cu integrar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TIC și a lecțiilor AEL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g) evaluarea competențelor cadrului didactic inspectat de autiliza metodel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h) consilierea cadrului didactic inspectat în legătură cu utilizarea unor metod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i) evaluarea capacității cadrului didactic inspectat de a integra elementele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78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j) consilierea cadrului didactic inspectat în legătură cu integrarea elementelor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k) consilierea cadrelor didactice în vederea diversificării ofertei curriculare de cursuri opțional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) consilierea cadrelor didactice în legătură cu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23880"/>
            <a:ext cx="7315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) relația profesor—elev și aplicarea sistematică a strategiilor didactice centrate p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b) utilizarea achizițiilor anterioare de învățare ale elev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c) concordanța dintre strategiile didactice utilizate și caracteristicile grupurilor d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) individualizarea sarcinilor și a situațiilor de învățare în funcți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nevoile identifica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) caracterul interdisciplinar și transdisciplinar — legături cu al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scipline de studiu, în cadrul aceleeași arii, și legături cu discip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rii curriculare diferi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3482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500"/>
            </a:br>
            <a:br>
              <a:rPr sz="2500"/>
            </a:br>
            <a:r>
              <a:rPr b="1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160" y="18288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odul de selecție și utilizare a auxiliarelor curriculare în funcție 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specificul unității de învățământ preuniversitar și de achiziți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nterioa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învățare ale educabil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g) dezvoltarea capacității elevilor de a învăța din experiență și di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ractic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h) modul de răspuns al cadrului didactic la cererile elevilor sau a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ărinților privind acordarea de sprijin individual în 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i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includerea, dacă este cazul, în cadrul activităților de predare-învăț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valuare a elementelor specifice ale minorităților etnice, religioase sa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altă natură existente în instituția de educați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j) utilizarea formelor de evaluare formativă și sumativă a rezultate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ări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800"/>
            </a:b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1295280"/>
            <a:ext cx="7924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k) respectarea recomandărilor de igienă școlară privind echilibrul dint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ctivitatea școlară a elevului și celelalte tipuri de activități specifi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vârstei (inclusiv în privința temelor pentru acasă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l) respectarea drepturilor și îndatoririlor cadrelor didactice și ale elevi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 cadrul proceselor de predare-învățare-evalu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) utilizarea autoevaluării și interevaluării elevilor în activitățil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n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prezentarea produselor activității elevilor în sălile de clasă/grupă ș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celelalte spații ale unității de învățământ preuniversita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o) caracterul obiectiv al evaluării formative și sum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reg</a:t>
            </a:r>
            <a:r>
              <a:rPr b="0" lang="ro-RO" sz="3600" spc="-1" strike="noStrike">
                <a:solidFill>
                  <a:srgbClr val="000000"/>
                </a:solidFill>
                <a:latin typeface="Trebuchet MS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irea cadrelor didactic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Direc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ţ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ii principale de preg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ă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tir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unoaşterea documentelor şcolare reglatoar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(Planurile –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dru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şi programele şcolare în vigoare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Pregătirea de specialitate şi metodic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manualelor şcolare, a ghidurilor metodologice  şi a ghidurilor de evaluare pentru disciplina Limba modernă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Formarea cadrelor didactice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 în vederea abordării interdisciplinare a lecţiilor de limbă modern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Dotarea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binetelor de limbi moder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 instrumentelor de evaluare, inclusiv a instrumentelor digitale de evalua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 rot="20880000">
            <a:off x="755280" y="1412640"/>
            <a:ext cx="75247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SUCCES TUTUROR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ÎN NOUL AN ŞCOLAR 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şcolară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-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reprezintă un ansamblu de acţiuni  care urmăresc îndrumarea, controlul şi evaluarea activităţii desfăşurate de cadrele didactice, colectivele de catedră / comisiile metodice, conducerile unităţilor de învăţământ, inspectorii şcolari, inspectorii şcolari de specialitate, inspectori şcolari generali adjuncţi şi inspectorii şcolari generali, în cadrul procesului de învăţământ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asigură o evaluare externă de proces a calităţii şi a nivelului atingerii standardelor educaţ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se desfăşoară prin acţiuni specifice proiectate şi realizate la nivelul unităţii de învăţământ, al inspectoratului şcolar şi al Ministerului Educaţiei Naționale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este organizată de căt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a) Ministerul Educaţiei Naț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b) Inspectoratele şcolare județene/ al municipiului București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FUNCŢIILE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 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</a:t>
            </a:r>
            <a:r>
              <a:rPr b="1" lang="ro-RO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iagnoză, prognoză şi prospecţie a sistemului de învăţământ pe o perioadă determinată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planificare şi organizare a sistem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orientare şi îndrumare metodologică a proces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monitorizare a eliminării disfuncţiilor constatate prin aplicarea planului de măsur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reglare/autoreglare a sistemului şi/sau a procesului de învăţământ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SCOPU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L 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unităţilor şcolare şi a personalului didactic în creşterea calităţii procesului educativ prin consiliere şi revizuire continu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evaluării calităţii ofertei educaţionale şi a nivelului de performanţă atins de elevi, la nivel naţional, regional, judeţean şi local, prin furnizarea către cei în drept a rapoartelor de inspecţi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Principiile inspecţiei şcolare sunt: 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alităţii ofertei educaţion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galităţii şanselor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meliorării şi dezvolt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utoevalu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feed-back-ului constructiv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ompetenţei şi profesionalismulu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miterii judecăţilor de valoar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xaminării multicriteri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transparenţei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53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În evaluarea şi consilierea cadrelor didactice în cadrul inspecţiei de specialitate se va urmări cu precăde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unoaşterea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în care demersul didactic este conceput din perspectiva atingerii competenţelor specifice incluse în  cadrul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Asocierea în cadrul planificării şi proiectării didactice 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nţinuturilor în funcţie de competenţele specific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Utilizarea unor strategii didactice bazate pe metode moderne şi alternarea formelor de activitat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Integrarea  elementelor de evaluare  în cadrul strategiilor didactice prin  utilizarea unor forme şi metode diversificat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 evaluare inițială, evaluare formativă, evaluare sumativ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metode tradiţionale şi metode alternative şi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mplementare, inclusiv evaluarea digital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2160360"/>
            <a:ext cx="6934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de adecvare al strategiei didactice la particularităţile claselor de elevi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Realizarea unor conexiuni inter şi trans-disciplin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Evaluarea activităţii didactice din perspectiva eficienţei învăţări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5fcbef"/>
                </a:solidFill>
                <a:latin typeface="Trebuchet MS"/>
                <a:ea typeface="Tahoma"/>
              </a:rPr>
              <a:t>Inspecția de specialitate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 tipuri majore de activități</a:t>
            </a:r>
            <a:r>
              <a:rPr b="0" i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Activități de asistență la lecție/lecții, analiză, autoevaluare, evaluare și consilier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. Analiza documentelor și a activităților catedrei și consilierea membrilor catedre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Scop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îl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constitui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evaluarea și/sau monitorizarea activității didactice, în mod fundamental a activității de proiectare, predare-învățare-evaluare, prin raportare la sistemul de competențe al profesiei didactice, consilierea cadrelor didactice în legătură cu activitat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or profesională și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Principalele obiective urmărite în cadr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sunt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a) evaluarea competențelor cadrului didactic inspectat de a elabora, pe baza unei lecturi personalizate a programei școlare, planificările calendaristice și proiectele unităților de 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b) consilierea cadrului didactic inspectat în legătură cu realizarea activităților de planificare și proiectare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c) evaluarea capacității cadrului didactic inspectat de a proiecta și utiliza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9:04:12Z</dcterms:created>
  <dc:creator>Manuela-Delia Anghel</dc:creator>
  <dc:description/>
  <dc:language>en-US</dc:language>
  <cp:lastModifiedBy>Luminita Stoian</cp:lastModifiedBy>
  <dcterms:modified xsi:type="dcterms:W3CDTF">2017-09-04T04:47:38Z</dcterms:modified>
  <cp:revision>139</cp:revision>
  <dc:subject/>
  <dc:title>CURRICULUM ŞI INSPECŢIE ŞCOLARĂ</dc:title>
</cp:coreProperties>
</file>