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75F-1FC5-4B36-A108-41138740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5BA-5C24-4F27-AEAC-5F397F88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A7A-BD84-4D19-86B8-F3B4905B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626-D942-4280-B8A1-BF0ECC96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FB2-EFE3-42D2-8D94-C6051789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51D0-EDF7-42F8-B481-FFABD56A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433C-D123-4FF0-9E5E-F8B2E5ED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80CC-33AC-4677-A4A7-0A0F86B3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2671-2081-4931-AFA7-EB221F71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01D0-382F-4C80-B5AC-610BD952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FCBF-751C-49D0-B70E-30703D9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2BD-CCB8-4980-887D-915CA637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E37F-A56A-489A-93DE-660A6EE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77A4-A3D6-48E3-8E75-D4AE4C8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5CC1-2DFB-4641-84E4-B6E02BC5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C8DB-462B-4064-8D5D-92403217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A17B-7DCA-4703-A6AA-33F9A097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5764-167B-4CF2-9822-2829EABB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AC00-EE4F-406B-9905-12F2C9A1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F999-34C7-4EE2-8B48-3A52160C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D932-201E-4F74-B921-8731D280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4EC4D-35B4-41FE-8363-FC03685C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892-9D01-43F3-A714-614DD750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114B-FE6F-4CB9-B600-2519AD68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9FFB-3AAC-42A8-96DD-5121596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CDAC-6A12-4789-A0F9-74AD6FE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7C7B-62A2-4A7C-8103-6D4FB1B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1732-2C5B-4F91-9E9A-1BBF1E40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3BF7-251F-46E0-85EA-8E5FF449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B613-A5BB-4E2C-A703-12960FCC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38A-458A-4F99-8458-F1D18EEC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BA9-BFC1-4638-A9C8-86D967CC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AD6-1112-41E6-BE07-C1AD3903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AA1-22AF-4D2D-82C4-D3A9DA31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95E-AB6E-4F34-9F18-A6B3C88D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1E8-3D11-4C58-87B0-7F781F1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11357280" y="0"/>
              <a:ext cx="68220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4F11A-FC03-4999-8B05-7D2F383B9B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10" descr=""/>
          <p:cNvPicPr/>
          <p:nvPr/>
        </p:nvPicPr>
        <p:blipFill>
          <a:blip r:embed="rId4"/>
          <a:stretch/>
        </p:blipFill>
        <p:spPr>
          <a:xfrm>
            <a:off x="-6480" y="-6480"/>
            <a:ext cx="231156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152FE-0057-4E3C-A5E5-07B760F46E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11357280" y="0"/>
              <a:ext cx="68220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0E59B-E058-49EA-8B84-572431FFAA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60200" y="669960"/>
            <a:ext cx="8791560" cy="17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ELEMENTE DE NOUTATE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ALE PROGRAMEI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Ş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COLARE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PENTRU DISCIP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60200" y="2808360"/>
            <a:ext cx="879156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1 – STUDIU INTENS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FRANCEZĂ / SPANIOLĂ / ITALIAN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2) PRECIZAREA NIVELURILOR DIN CECRL LA INTRAREA ELEVILOR ÎN CICLUL DE ÎNVĂȚĂMÂNT GIMNAZIAL, PRECUM ȘI A NIVELURILOR AȘTEPTATE LA FINALUL CICLULUI GIMNAZIAL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1560" y="2451240"/>
          <a:ext cx="9905760" cy="411480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  <a:gridCol w="3301920"/>
              </a:tblGrid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8720" y="914040"/>
            <a:ext cx="9906120" cy="19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TALIEREA FIEC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MPETEN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GE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L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ÎN COMPETENȚE SPECIFICE, ULTIMA COMPETENȚĂ SPECIFICĂ FIIND DE NATURĂ SOCIO-CULTURAL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141560" y="3446640"/>
            <a:ext cx="99057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) PREZENTAREA DETALIATĂ A RECOMANDĂRILOR ȘI A SUGESTIILOR METODOLOGICE, PRECUM ȘI A STRATEGIILOR DE PRED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1301760" y="428760"/>
            <a:ext cx="99061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EZENTAREA DE EXEMPLE SPECIFICE FIECĂREI LIMBI, PREZENTAREA DE TEME RECOMANDATE CE EVOLUEAZĂ PROGRESIV DE LA O CLASĂ LA AL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1301760" y="209880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ZENTAREA DE TEME DE PROIECT INTRODUSE PROGRESIV DE LA UN NIVEL LA ALT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1239840" y="3801960"/>
            <a:ext cx="103647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AREA GRAMATICII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UNCȚ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TR-O DUBLĂ PERSPECTIV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EE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TELOR DE VORBIRE / A FUNCȚIILOR LIMB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EEA A ELEMENTELOR DE CONSTRUCȚIE A COMUNICĂRII CE CONTRIBUIE LA REALIZAREA DIVERSELOR ACTE DE VORB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tre 1"/>
          <p:cNvSpPr/>
          <p:nvPr/>
        </p:nvSpPr>
        <p:spPr>
          <a:xfrm>
            <a:off x="1100160" y="412920"/>
            <a:ext cx="99061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EZENTAREA DESCRIPTIVĂ, ÎN ANEXĂ, A ELEMENTELOR DE CONSTRUCȚIE A COMUNICĂRII SPECIFICE FIECĂREI CLASE / NI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1168560" y="2286000"/>
            <a:ext cx="99057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DICAREA RESURSELOR ON LINE UTILE PARCURGERII PROGRAM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1130400" y="4043520"/>
            <a:ext cx="987588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10) CORELAREA PROGRAMELOR ȘCOLARE PENTRU LIMBI MODERN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FRANCEZ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SPANIOL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TALIAN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CU NIVELURILE DIN CECRL, PRECUM ȘI CU INSTRUMENTELE CONEXE, PRECUM REFERENȚIALUL PENTRU CECRL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LIMBA FRANCEZ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/>
  <dc:description/>
  <dc:language>en-US</dc:language>
  <cp:lastModifiedBy>Micky</cp:lastModifiedBy>
  <dcterms:modified xsi:type="dcterms:W3CDTF">2017-09-17T19:36:40Z</dcterms:modified>
  <cp:revision>18</cp:revision>
  <dc:subject/>
  <dc:title>Elemente de noutate ale programei școlare pentru disciplina</dc:title>
</cp:coreProperties>
</file>