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292-5FE0-46A4-8B65-2CDB0220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E86-6490-4D1E-8B13-B0327F19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4B8-D546-40B9-B997-67C3FD0B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C05-E0B0-4A00-ADC3-D57BBAEC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F392-B501-4A44-B778-4ACEB819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EBE-A51E-40A9-941A-361530A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DD69-8800-4B7A-B6AF-C27885B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9BF-9CFE-40BC-8602-977C465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8EB-71FF-4FCB-80A0-026400E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C07-3AFC-4AF8-91BF-DCD63C5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9034-82D1-4D29-A715-4371A55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68F-F61C-453C-A484-EFFB8C68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574D-B2C0-472B-8A93-17020FE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4BF-D32A-418D-93F2-DA96644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6543-5F4C-4EBA-BCDB-100B07B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EB1F-A9E2-4646-8C69-91118935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4E3E-C211-40D2-9676-810CA16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2B22-45AE-4516-872F-D639D2F9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BC26-A0E0-466B-B5ED-6ED9DFD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4123-22BB-4DEE-BAE8-52CC18A5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16F8-7A10-4634-BA6D-62E0B22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E582-CA2D-437B-8C44-24A70FBC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3CB-B8A3-4465-AB91-0A84306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7655-1DA5-4394-969E-576F057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3CFC-914C-412F-A6A1-EA65435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540F-1D4F-4754-AE53-0B3EFD1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727D-5701-4BDA-BE74-998B87E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28EA-DA52-47F4-BB28-593FC76D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7811-5DDD-434B-9FA3-8EBB1C0F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A9A5-8AE9-4ED4-AAE5-0073B7D7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A8CE-07A0-476E-8A15-86F7DD15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196F-6AF4-4037-B30E-5F38599B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3F0A-7B08-42C3-8963-7ECFE34B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C1B-1D01-4CF9-815A-16D2CC48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23AA-EED9-4579-9FF2-DE7E479F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9D27-E0E7-469B-BDAC-F4548B08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86E7-B5A4-4EBD-A89F-E90698E5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A8AC-240C-48DA-8A2A-BFDFF44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F5E0-F846-4887-B840-6A1E093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6B13-1AD1-4871-8189-58F07B7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C30D-B952-4F46-B061-C210E32B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5F50-B62E-4D74-8F72-CB308926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BD21-FE08-4C5D-AAF7-A5F3106B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25ED-AA25-4D4F-9568-5D836C3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DED-BBB2-42AA-9443-34C43AF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E72D-B501-4C62-AEE2-953AFC3A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55A8-E49A-4C9F-9AC6-D339C5F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8F9E0-B118-4B32-95FA-419C5C4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8F8E-C86D-469D-AE00-AA02EA97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37D8C-D11E-4559-AEBF-CDC5601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5D79-5CB1-45B1-9F33-F76FBF3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C557-2A21-47E3-B726-C4B51F9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E713-50C9-4182-A556-2C93EC6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06C3-F1C0-4D74-BBF2-76C09356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3F91-DB10-428C-BC17-B428ADB9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13A-4F9F-4C5C-8CCF-CCD5207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DEFBF-D7AE-45FF-A429-282F0E0F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45CF-7ABA-415E-A0B9-E1531191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6DB4-DAC8-48BF-902F-A5F4C4BA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BB9F-1ECC-4AE2-A39A-F42B041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24B6-B4BA-459F-9803-FEE8B3C5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3ADF-A542-4556-836D-9CF6FC5B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7E60-905D-4E10-AAF0-29554E7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725D-89F6-4F45-9046-DA709D4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9AD0-CCCE-4B52-8898-625BE92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59BE-3FC6-4F7B-B24B-BC948FD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B42-EF3C-489D-829F-C864B21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2BE6-23D0-4FA8-8C9D-9850B45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F95B-4D29-40BA-9C63-F9B007D7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C641-B15F-4829-A6C7-DC31CB0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2C60-360B-4614-9E31-0875FA4A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3F76-502A-4A62-BA8D-0D7599DC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41219-2E3E-4B95-8E2B-63D69C2C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7ADF-55D8-4ADB-9241-1579016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AE16-F628-44D0-87D6-8A13DA9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4408-79F4-48BA-A7D0-A79A49F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E538-C185-4019-A399-6ACCAD6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CFC-EFB1-47B6-AB42-1774406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0684B-2A5D-4653-BC86-DE0BF6B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85AC-BBF5-4A70-A972-CECA2C0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E699-6806-4E10-BE24-1C9BBE65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F6A3-B192-4021-AF67-7BF74924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0355-3C2A-47A8-9EE6-CCC5821C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74D5-9FF8-4F87-BEE7-56949E2A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27F4-05CC-4712-A7FD-E6FD4AE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A31CD-4C7D-4F16-AE1B-8F038EE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267F5-D44A-4A12-A2FC-1A6E689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2800-8ACD-48BF-95EB-C7267990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EFE-2750-404F-B72D-F289897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2904-BB39-45B3-A087-F057022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4907F-3DBC-4667-BB08-635BEE9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88F3-BF89-45FD-8A8F-FEF74BC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6E4FC-CE89-492B-8778-108A468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BABD8-C639-4115-9FFB-77CB38A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BDD9-1FA6-4DDE-A92A-CB74D0ED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8FAF0-940B-419A-9882-6AAB3D21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4ACD-7068-4F9E-8764-8FD0CC47835F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16B-4FD4-463C-A79F-4D53457D09D3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23B0-0D45-4FCA-A7DF-6E2175691B09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53BA-015F-49A8-8397-B40CE5FBFC8D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5AF-C5E6-4F91-8476-2D8050D07F5B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3E1E-0042-4889-9B45-46D6F2A59A2F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54F-09F5-484A-BF51-808EA45C7C7A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2F31-F5CD-42B2-83D0-C0B796738229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3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Tw Cen MT"/>
              </a:rPr>
              <a:t>LIMBI MODE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Image result for limbi moderne"/>
          <p:cNvPicPr/>
          <p:nvPr/>
        </p:nvPicPr>
        <p:blipFill>
          <a:blip r:embed="rId2"/>
          <a:stretch/>
        </p:blipFill>
        <p:spPr>
          <a:xfrm>
            <a:off x="324000" y="33336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RIN FUNCȚIA COMUNICATIV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IENTAREA ȘI EVALUAREA REACȚIEI VERBALE/NON-VER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REA FAPTELOR, IDEI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BINAREA FAPTELOR, IDE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ULAREA UNUI RĂSPU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42472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APTAREA STRATEGIEI LA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ÎN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ECVAREA SITUAȚIEI DE COMUNICARE ȘI CONTEXTUALIZAREA COMUNICĂRI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ALIZAREA STRATEGIILOR DIDACTICE (PREDARE – EVALUARE) PENTRU OBȚINEREA ACHIZIȚIILOR DE CUNOAȘTERE</a:t>
            </a: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NȚINUTULUI CU COMPETENȚ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CU  FUNCȚIILE COMUNICĂRII ȘI ELEMENTELE DE CONSTRUCȚIE A ACEST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VIZIBILITATEA PROGRESIEI COMPETENȚEI PRIN VALORIFICAREA CONȚINUTULUI ȘI ADECVAREA ACTIVITĂȚILOR DE PREDARE - ÎNVĂȚARE – EVALUARE</a:t>
            </a:r>
            <a:r>
              <a:rPr b="0" lang="ro-RO" sz="1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LORIFICAREA ȘI RELAȚIONAREA CUNOȘTINȚELOR ȘI ACHIZIȚIILOR CULTURALE ALE ELEVILOR CU PROCESUL ÎNVĂȚĂRII-EVALUĂ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CTIVITĂȚI DE ÎNVĂȚARE APLICATE, ACTUALIZATE, RACORDATE LA CULTURA ȘI INTERESELE COGNITIVE A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OR, PRIN CARE SE STIMULEAZĂ CREATIVITATEA ȘI EXPRIMAREA OPINIEI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FERIREA DE EXEMPLE DE ACTIVITĂȚI DE ÎNVĂȚARE ȘI EVALUARE CENTRATE PE COMPETENȚE MU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INSTRUMENTELOR DE INFORMARE MODERNE FOLOSITE FRECVENT DE GENERAȚIA ACTUAL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00000" y="1447560"/>
            <a:ext cx="7786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AREA ACESTORA ASTFEL ÎNCÂT SĂ ABORDEZE NEVOILE DE ÎNVĂȚARE ALE ELEVI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ÎNCURAJEZE ȘI SĂ MOTIVEZE ELEVII PENTRU A ÎȘI EXERSA COMPETENȚELE ȘI UTILIZA CUNOȘTINȚ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Ă REFLECTE ACHIZIȚIA ȘI CAPACITATEA ELEVILOR DE A UTILIZA CUNOȘTINȚELE ÎN CONTEXTE N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ALORIFICAREA FEEDBACK-ULUI OFERIT DE ACESTEA ATÂT ASUPRA PERFORMANȚEI DIDACTICE, CÂT ȘI ASUPRA PROGRESULUI ELEV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LABORAREA PROGRAMELOR PENTRU LIMBI MODERNE CONFORM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ECOMANDĂRII PARLAMENTULUI EUROPEAN VIZÂND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OMPETENŢELE CHEIE DE ÎNVĂȚARE PE TOT PARCURSUL VIEȚII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ȘI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ADRULUI EUROPEAN COMUN DE REFERINŢĂ PENTRU LIMBI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ÎN CEEA CE PRIVEȘTE NIVELURILE LINGVISTICE DE REFERINȚ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2520" y="244440"/>
            <a:ext cx="8802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PROGRAMELOR PENTRU LIMBI MODERNE LA DEZVOL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REA COMPETENȚELOR CHEIE PRIN RELAȚIONAREA CELOR LINGVISTICE CU CELE SOCIALE, CIVICE, DIGITALE ȘI DE SENSIBILIZARE ȘI EXPRIMARE CULTURAL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APORTUL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PROGRAMELOR PENTRU LIMBI MODERNE  LA DEZVOLTAREA COMPETENȚELOR CARE SPRIJINĂ INTEGRAREA TINERILOR ÎN EPOCA GLOBALIZĂRII PRIN RACORDAREA LA INSTRUMENTELE DE COMUNICARE TIPICE PENTRU SOCIETATEA CONTEMPORANĂ ȘI FACILITARE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 PROGRAMELOR PENTRU LIMBI MODERNE LA CREAREA UNUI MEDIU DE ÎNVĂȚARE FACTUAL,  MOTIVANT PENTRU STUDIU ȘI DE CONTEXT SEMNIFICATIV PENTRU TINERII DE 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FLEXIBILITATE ȘI INOVARE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– PROGRAMA DE LIMBA MODERNĂ 1/ LIMBA MODERNĂ 2/ LIMBA MODERNĂ 1 – STUDIU INTENSIV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PROGRAMA PENTRU LIMBA MODERNĂ 1 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IGURĂ PROGRESIA ACCELERATĂ A ACHIZIȚIEI DE COMUNICARE (CONFORM </a:t>
            </a:r>
            <a:r>
              <a:rPr b="0" i="1" lang="ro-RO" sz="2700" spc="-1" strike="noStrike">
                <a:solidFill>
                  <a:srgbClr val="000000"/>
                </a:solidFill>
                <a:latin typeface="Arial"/>
              </a:rPr>
              <a:t>PRECIZĂRILOR </a:t>
            </a:r>
            <a:r>
              <a:rPr b="0" i="1" lang="ro-RO" sz="2700" spc="-1" strike="noStrike">
                <a:solidFill>
                  <a:srgbClr val="ff0000"/>
                </a:solidFill>
                <a:latin typeface="Arial"/>
              </a:rPr>
              <a:t>44961</a:t>
            </a:r>
            <a:r>
              <a:rPr b="0" lang="ro-RO" sz="2700" spc="-1" strike="noStrike">
                <a:solidFill>
                  <a:srgbClr val="ff0000"/>
                </a:solidFill>
                <a:latin typeface="Arial"/>
              </a:rPr>
              <a:t>/25.10.2016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) DE LA NIVELUL A1 (STRUCTURAT LA FINALUL ÎNVĂȚĂMÂNTULUI PRIMAR) PÂNĂ LA B1 (LA FINALUL GIMNAZIULUI</a:t>
            </a:r>
            <a:r>
              <a:rPr b="0" lang="ro-RO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676440" y="255600"/>
            <a:ext cx="800388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920" y="155736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REA PROGRAMELOR PE DEZVOLTAREA ȘI EXERSAREA COMPETENȚE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ULAREA COMPETENȚELOR SPECIFICE CONFORM DESCRIPTORILOR AFERENȚI FIECĂRUI NIVEL LINGVISTIC DE REFERINȚĂ ȘI EVIDENȚIEREA PROGRESIEI DE LA UN NIVEL LA ALTUL 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INTERDISCIPLINAR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PROCESULUI PREDĂRII – ÎNVĂȚĂRII ÎNTR-O MANIERĂ INTEGRATĂ: PORNIND DE LA SITUAȚII ȘI CONTEXTE FAPTICE DE ÎNVĂȚARE CARE RELAȚIONEAZĂ COMPETENȚA CU FUNCȚIILE ȘI ELEMENTELE DE CONSTRUCȚIE A COMUNICĂRI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OCIEREA EXPLICITĂ A FUNCȚIILOR COMUNICĂRII CU ELEMENTELE DE CONSTRUCȚIE A ACESTO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24000" y="1052640"/>
            <a:ext cx="8820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DETERMINAREA UTILIZĂRII METODELOR DE PREDARE- EVALUARE CENTRATE PE GÂNDIREA CRITICĂ,  DISCRIMINATIVĂ, CREATIVĂ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PREPONDERENȚA ÎNVĂȚĂRII DE TIP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APPRENTISSAGE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EN FAIS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STIMULAREA IMPLICĂRII ELEVILOR ÎN ACTUALIZAREA PERMANENETĂ A CUNOȘTINȚELOR, PRIN VALORIFICAREA LIMBILOR MODERNE CA MODALITATE DE DESCOPERIRE ȘI TRANSMITERE A INFORMAȚIILOR DE ULTIMĂ ORĂ DIN DIVERSE DOMENII ALE VIEȚII SOC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614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6:23:42Z</dcterms:created>
  <dc:creator>Cismaru, Mihai</dc:creator>
  <dc:description/>
  <dc:language>en-US</dc:language>
  <cp:lastModifiedBy>Micky</cp:lastModifiedBy>
  <dcterms:modified xsi:type="dcterms:W3CDTF">2017-09-17T19:31:14Z</dcterms:modified>
  <cp:revision>29</cp:revision>
  <dc:subject/>
  <dc:title>NOUL CONCEPT al programelor școlare</dc:title>
</cp:coreProperties>
</file>