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35D-43E5-44C2-BCA4-EE12AB60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C70-8BDC-4974-9F32-5D2BA106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6EE-EB35-4D1D-AA8C-0D185713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B41-A04E-45A5-B058-9DB12E57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0ACE-D234-4325-91B4-49E71503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9415-ED8D-4B36-AABB-CE7EC3C7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1DDA-5D0B-4DD4-AF95-24EE1FB5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0B9F-21EA-4FE0-B95A-C393D406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3C6-9694-4510-8EC1-B87B4C25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B10C-16A7-4ACD-8208-58D23CBD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74C5-C655-4B9D-A050-C3467DFE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A01-EB24-44FE-A6F2-C1F5AE16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3DCF-E489-4941-B0F2-AE97CBA3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2FBC-D015-445C-8273-DB8A7D35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73D6-88ED-4D00-9C1B-9DEA2E54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1E9-31E2-463F-8525-5D69829F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BA5C-3FB6-44B7-A2A5-787F6380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D1903-3318-45F7-88A6-03B15287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E1C7-5ECF-4DE1-B7B2-875ACABE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DF45F-6293-4AF4-B533-8F9F9432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8E6D-62A4-4D43-A5E0-840B5408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71EB-81C7-40C9-B9DA-CDF9EC86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080-1440-4A8D-8AB6-0D6E10D2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C0F1-0B17-43E0-8EFA-E2F628E3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68A7-B247-4152-B8B4-1BB047CA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5835-488D-4662-8EFF-ABF25E83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2EB7-9D09-4853-916E-A1BA8E1A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E3C8A-EAC8-4B66-9604-D71AC66E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349BB-4A47-4ACF-BD2B-658B40FE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D5B0-B6A1-4972-8F6D-69334FB3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1666-0F01-4581-8DDF-293DB416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7220F-C2A4-4903-BC2E-B4CCE744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9A50-0173-4DBB-BB92-FDD89ABA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882-7D7F-4AB3-9689-96B13810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A4040-5330-4DA1-932C-9570A92C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12BF2-6483-42C2-ACC3-59488BC8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27CD8-3389-4DE2-A49C-FA9AD008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B800-5EDC-4E0E-8E58-C66D851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9A51C-515B-431C-B11C-51FD3F44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288D-121F-4AB4-8AD5-59794E5C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B8939-8CB3-4D85-9052-9E6886DD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0871-7210-415B-BC90-356BBFE3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FD1D-3BA1-4CF2-87B6-9380F4AB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47D03-EE6A-406A-A641-1D2307F9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D12-7786-475F-B4EB-2F9A8A5D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27B75-A88C-447C-B0C4-CA4116C4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4E484-C5DC-4E50-971F-9596685B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35D6-D0F9-4B57-A8E9-3981DCFC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2E9C0-217E-46A5-BDA2-29845769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89DAF-A2AA-439C-90D5-6BF6A312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70003-1609-4CDE-887E-502AF2FC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9DD00-2E82-488F-BFB6-E6223D4D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2522C-B6A8-41CB-B7AD-C98351FC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484E0-1C95-4DDB-8C7B-E30B5E84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79C7-9F48-4CCF-82E8-4971908D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669-B71E-4C6B-925F-A6547C74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119A3-AA93-4A2B-AC87-A9A316EF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C7226-502E-4683-94BD-3C73FE74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12CCF-3335-4D5E-9985-08E2AFBA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DF4CF-16FB-49FE-8004-86F095F7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22332-8F78-4542-A545-4B9C05C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0C9C6-FBF9-4BF5-B3DC-7E8B257E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C78E4-7454-4703-8D33-CD480B2D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759F3-ABA6-415E-99D3-30D144D6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4953A-3352-4102-96F2-204AF60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74A3B-97DF-4AB6-BF4D-A7870B12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8CA-ED72-4B1F-B7F7-38301101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CF964-A9BB-4C57-980F-C4616C6F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19774-F0F5-4F91-BDA2-EED09D47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6B8D1-0041-4A2A-A0F5-7F69BBDF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62F21-16DB-44B1-9F15-7FC44156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AECB3-0568-46F1-96EF-CE1EF4F5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21CA2-A922-4718-8AB5-67538D91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56943-337A-43E2-8964-369B5F14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4446-412B-44F8-BC36-419872F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CB530-3FAA-4EE8-A3F9-186B06B4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39C41-01D3-4B6E-95DC-0899EAAD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0F6-B1C5-4483-B765-CA8CBEAB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B0EA-611C-4901-BBF1-833E70D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CED02-8810-4E7F-B22F-E8631C1F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0125A-614B-4586-90CD-83E88622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03A3E-5544-4AE0-B31E-35C718C9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6E49-50E8-4C9D-9BB7-D3B077FF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812DC-72F6-46DE-8B34-0FD3F737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6F519-9318-4A9C-80AE-C1059D8E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675FD-1F66-4D73-80FA-A71C02F9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BCCE7-88A7-430F-8EEA-85C2C3E3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A23EA-C045-486A-9CD8-A209B1E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EF7-309C-4306-A4B2-286C0B1D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4B49F-564E-4EB5-8F38-DC3628F6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AA925-69E7-480D-A156-3CF3272B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E8CDA-A518-4939-A0AE-8F7B684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018D0-BC4B-4C39-B68E-F081D68B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57E29-3E39-46EA-93D5-42748DC7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8650A-2B7A-4850-A99B-5C4D1A73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A1A28-B317-448F-8139-8E6ADDFE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8B700-79ED-48DF-BA09-91F8B56D10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12201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4680" y="4952880"/>
            <a:ext cx="12196800" cy="1911600"/>
            <a:chOff x="-4680" y="4952880"/>
            <a:chExt cx="12196800" cy="1911600"/>
          </a:xfrm>
        </p:grpSpPr>
        <p:sp>
          <p:nvSpPr>
            <p:cNvPr id="49" name="Freeform 16"/>
            <p:cNvSpPr/>
            <p:nvPr/>
          </p:nvSpPr>
          <p:spPr>
            <a:xfrm>
              <a:off x="2255040" y="4952880"/>
              <a:ext cx="9930960" cy="486720"/>
            </a:xfrm>
            <a:custGeom>
              <a:avLst/>
              <a:gdLst>
                <a:gd name="textAreaLeft" fmla="*/ 0 w 9930960"/>
                <a:gd name="textAreaRight" fmla="*/ 9931320 w 9930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54360" y="5236560"/>
              <a:ext cx="12131640" cy="786240"/>
            </a:xfrm>
            <a:custGeom>
              <a:avLst/>
              <a:gdLst>
                <a:gd name="textAreaLeft" fmla="*/ 0 w 12131640"/>
                <a:gd name="textAreaRight" fmla="*/ 12132000 w 1213164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1080" y="4992120"/>
              <a:ext cx="12191040" cy="1872360"/>
              <a:chOff x="1080" y="4992120"/>
              <a:chExt cx="1219104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992120"/>
                <a:ext cx="1219104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84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4680" y="4986000"/>
              <a:ext cx="121968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E35D4-1404-4F73-A404-6E817FB778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4848120" y="300528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4600440" y="3005280"/>
            <a:ext cx="243000" cy="228600"/>
          </a:xfrm>
          <a:custGeom>
            <a:avLst/>
            <a:gdLst>
              <a:gd name="textAreaLeft" fmla="*/ 0 w 243000"/>
              <a:gd name="textAreaRight" fmla="*/ 243360 w 2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E5FAA-A39E-4F71-AD21-652BD13F5A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E79A7-A7AA-4C13-926B-CE8C6BAC55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BAF32-7165-4CE2-91BD-72FB1055D1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A158F-1AD1-4F19-BCFC-B30E77D0DE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346B6-A82C-475B-919A-D02D6A287B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11552400" y="498780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11302920" y="498780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C977A-9431-453E-A524-9E0D258D1A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re 1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8942400" cy="24577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960200" y="3433680"/>
            <a:ext cx="8791560" cy="16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200" spc="-1" strike="noStrike">
                <a:solidFill>
                  <a:srgbClr val="464646"/>
                </a:solidFill>
                <a:latin typeface="Lucida Sans Unicode"/>
              </a:rPr>
              <a:t>STRUCTURA SECȚIUNII</a:t>
            </a: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200" spc="-1" strike="noStrike">
                <a:solidFill>
                  <a:srgbClr val="464646"/>
                </a:solidFill>
                <a:latin typeface="Lucida Sans Unicode"/>
              </a:rPr>
              <a:t>LIMBA FRANCEZĂ</a:t>
            </a: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CUPRINDE 16 PAGINI DE ACTIVITĂȚI ORGANIZATE ASTFE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Test de evaluare inițială – nivel așteptat, A1 – pagina 8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Test de evaluare inițială – analiza și interpretarea rezultatelor obținute de elevi – pagina 8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Unitatea I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a famille, mes amis et ... moi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(de la pagina 83 la pagina 89), cuprind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oi, je suis...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oi, je suis... (suite)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’adore;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Je vous présente mes am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d. Unitatea a II-a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Ma vie quotidienne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90 la pagina 96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Une journ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e de ma vi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trucs pour être en form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le heure est-il?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 temps fait-il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Lucida Sans Unicode"/>
              </a:rPr>
              <a:t>CUPRINDE 16 PAGINI DE ACTIVITĂȚI ORGANIZATE ASTFEL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Unitatea I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Salut, les amis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97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06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Salut!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Comment tu t’appelles?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 âge as-tu?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Les noms des couleurs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5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Dans mon cartable il y 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b.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Unitate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a II-a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oi, à l’école et en famille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07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14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on emploi du temps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a famill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vous présente ma famille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cousins en Europe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5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activités préféré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/>
  <dc:description/>
  <dc:language>en-US</dc:language>
  <cp:lastModifiedBy>Micky</cp:lastModifiedBy>
  <dcterms:modified xsi:type="dcterms:W3CDTF">2017-09-19T11:13:02Z</dcterms:modified>
  <cp:revision>18</cp:revision>
  <dc:subject/>
  <dc:title>Elemente de noutate ale programei școlare pentru disciplina</dc:title>
</cp:coreProperties>
</file>