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7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odica Cherciu" initials="RC" lastIdx="8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7-08-28T16:02:47.289000000" idx="6">
    <p:pos x="1337" y="2016"/>
    <p:text>trebuie sa gasim un sinonim</p:text>
  </p:cm>
  <p:cm authorId="0" dt="2017-08-28T16:03:07.562000000" idx="7">
    <p:pos x="5410" y="2921"/>
    <p:text>de invatare ale elevului</p:text>
  </p:cm>
</p:cmLst>
</file>

<file path=ppt/comments/comment15.xml><?xml version="1.0" encoding="utf-8"?>
<p:cmLst xmlns:p="http://schemas.openxmlformats.org/presentationml/2006/main">
  <p:cm authorId="0" dt="2017-08-28T16:05:15.098000000" idx="8">
    <p:pos x="1954" y="453"/>
    <p:text>Obiective viitoare</p:text>
  </p:cm>
</p:cmLst>
</file>

<file path=ppt/comments/comment5.xml><?xml version="1.0" encoding="utf-8"?>
<p:cmLst xmlns:p="http://schemas.openxmlformats.org/presentationml/2006/main">
  <p:cm authorId="0" dt="2017-08-28T15:41:34.894000000" idx="1">
    <p:pos x="1831" y="2304"/>
    <p:text>Nu este plan managerial</p:text>
  </p:cm>
</p:cmLst>
</file>

<file path=ppt/comments/comment7.xml><?xml version="1.0" encoding="utf-8"?>
<p:cmLst xmlns:p="http://schemas.openxmlformats.org/presentationml/2006/main">
  <p:cm authorId="0" dt="2017-08-28T15:47:18.040000000" idx="2">
    <p:pos x="1831" y="1461"/>
    <p:text>Planul de activitati, rapoarte</p:text>
  </p:cm>
</p:cmLst>
</file>

<file path=ppt/comments/comment9.xml><?xml version="1.0" encoding="utf-8"?>
<p:cmLst xmlns:p="http://schemas.openxmlformats.org/presentationml/2006/main">
  <p:cm authorId="0" dt="2017-08-28T15:49:04.288000000" idx="3">
    <p:pos x="4567" y="1265"/>
    <p:text>obiectelor de studiu</p:text>
  </p:cm>
  <p:cm authorId="0" dt="2017-08-28T15:49:44.120000000" idx="4">
    <p:pos x="4320" y="3322"/>
    <p:text>nu din scoala</p:text>
  </p:cm>
  <p:cm authorId="0" dt="2017-08-28T15:50:09.982000000" idx="5">
    <p:pos x="2921" y="3734"/>
    <p:text>Este portofoliul profesorului...ca om de rand, nu ca sef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FDF-8361-4BE2-8BD1-06DD820A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36F-3132-4063-B20E-1F46C632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90FA3-D4B3-4C0F-9850-58F5BC91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5D7A4-3618-4772-89B1-9AC1D71C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DDF7A-6E5D-411F-8B0B-647FF133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7B4A1-2D87-411F-9E0F-0B6766E5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92AA7-E063-4046-84F9-8A64A840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D31D2-64DD-4C8E-B996-789EBDCF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34241-CFF8-4AC7-8957-AE824742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1496D-D6DA-4ADC-9690-94F19878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5909E-DEA7-4D1D-8FF3-2E8FBD7B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27AED-CE0F-49C9-8930-0E590A9A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078-60F4-41CB-9E1B-5A0EE21B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BAD2D-D858-426B-9A25-B70D481C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89C85-B2E5-4833-93FD-E55EDC49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B3E70-4C85-4CA9-AF20-7540092C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D593C-D775-40B9-A2EE-16884E34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3794C-AED6-472C-BD0A-88ED12FD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8DAE2-A575-4968-A277-5BEBFCA5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64C1A-740F-4DC9-8D17-268C7F00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FF285-1FB6-475D-A862-25BE32CD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1C245-23C6-4F2C-8241-1C4AC916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135BF-FD75-4408-941D-E828CE60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0B1-3522-4E7A-A85E-C419F87B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F141A-5BF4-4F30-9124-5EB42AAA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EC80B-C5A2-4055-AFCA-FFCBD168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FD9F5-6FD1-417A-AD63-0B9052FB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E5DC7-41C6-4FAD-9900-D9ED23D9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D2C94-E9FF-4FED-9C67-5DE44B67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80FB4-A9F1-44B4-9E04-332E730D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A44D4-3A38-4E1B-80CA-D3DCBB85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C4EBB-E698-41A8-96CF-01AFDF73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CFE18-631D-4918-9815-EBA70CF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1FD4E-712F-43E9-8252-5B87150C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03B3-6320-4BC4-ABD4-D87B0919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A48CB-F417-4210-AE96-864C078B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7D4D3-D9D5-44C6-959F-06DE725D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AD6A0-3E48-45A4-9E43-2E6317AB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C49E-AF87-48AC-83F2-6260A14E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A4B5-D8AC-4341-996A-C5B44048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BB26-06D8-4760-B210-0B47F079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4D07-5821-41D7-BE2A-DC3E44A7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7099-C2E0-4CFB-9372-94819B61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47E0-A57D-4800-8BC2-FC15AC19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36F-D69A-4AA1-A8CB-1BBB93D5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120B-4BEF-4DC2-A858-4C415C3E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82EB-4EC5-4AA4-BDF1-DA73934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2B4C-95C0-449A-8EDC-39EFD713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AAFB-C03C-4B19-B6FD-65776C92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B828-703A-48EE-99AB-F98747EE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45DE-ADF1-4A2E-B64F-F9BBEF13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B76F-14C5-4888-9DB9-39429009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F30D8-152D-4CD4-B7A5-01EABB07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0E23-3BA3-4B3F-8C10-46D0A169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1472-A698-4BD9-BAFE-ED07D060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2CE-8107-4FA4-9B8B-F756B20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70DE-B7E9-49BE-A6FD-2FF414D0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12A5-F596-40D7-B6EC-5CEFD7FD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7749-4B68-4746-969F-D703FBB4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B42F-FD69-41B2-9AEB-E2D74E5F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AA03-C301-4DC0-A43D-C51DBDDA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344B-4F20-45F1-B719-111FB1CC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142E-AA3C-491E-822C-E345ACC6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A4A4-6DE2-44B8-8794-D16F68EC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FCA14-784B-4C11-97EA-E7E0D6D9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0A87E-1E9F-453B-904B-FA9BC1EA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2F5-64F4-4255-9B44-2A80EBF4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254CD-2B87-484B-AD26-65451FFF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8200-BB64-4E54-B344-4AC115A7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FC46-A58A-4B6E-9A0C-19B1D751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EBC68-E647-4AF4-A9F8-9E6FC566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1592B-DEA0-4971-A9C0-E2CF51F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5CD5-B1F8-4DC5-BD8D-5CF6BE1D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D545-2EC4-493A-B474-53F45EE4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FF72-DDC8-4BA2-BEEE-CF165991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3FDD0-E690-40E5-810C-FD97C08A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7B61B-B33C-4758-9ABE-DFC3CF9A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20B-DE67-49F2-9B28-5F2359BD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987A2-D89C-4901-A903-864DA663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C0F5-E63D-435C-AD05-A47CA07A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E983F-C37D-44E9-A010-8ED4FEB0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4637-26F2-42B2-AB41-7B4C0DA5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ED420-8109-49B2-B129-3E549EAB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27BF7-4536-49EE-A04F-A9CEEB0A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C4E88-6514-4814-AB08-A1266BC2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37CF4-5B13-4C53-8AD5-E7F5935E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D73D0-0129-4E00-943E-3504F8C8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2CC97-4A94-4DC5-93F5-9C42D7BC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9A8-E1B2-4A74-863F-F77E22C6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B4852-144D-4E15-AD5F-70090FF0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9ECEA-7AF8-40CA-9607-1F546ABD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2A17E-436A-41CF-93DC-28883298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D6ECC-1705-4B9E-AAD1-333D0F6F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D0285-FA5D-4BA8-88CA-A9B4FD65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43F73-C870-4B35-AB2E-4D659132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14455-0D43-4E64-BCE6-7BF391E7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BA613-C03E-4461-BEB7-98C369DF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A63BB-8C0C-4E27-95CB-DE3BCF2D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830F9-12CF-4B0D-9BBC-950F50AA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60A-CF19-4B06-A9EB-3243EFA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3A956-CC6E-4103-84F2-C96B5778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36E78-4B9F-4D7B-8BA4-9A8BCDEF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61401-B723-41E0-B6C2-C1A8E548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CBC36-1A37-4A0B-83B3-14CE11B1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5A852-5560-408F-BA7F-6E9E6D71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843C8-204D-4AB1-AC4D-B4E122FA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05E2B-8F3D-4E47-90E7-6106B8C9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532CC-C847-4219-BF19-91B23EAC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32E72-8AD8-42A0-97A6-BD176C93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26EAD-96F8-435F-BE58-5217F1E9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AC6-9728-4CA0-AA64-A6AF3E05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67149-05C3-4709-AAC4-422533CB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F59CC-8534-4815-BFBA-A14FC4A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5DE83-6530-426D-85CC-DA26AD27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CE4B1-F713-4726-BAA7-18DA286F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BAE54-1A01-4498-AE78-3B629817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14459-5E98-4540-A47D-BE1A98C2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94C40-BFAD-428B-A55E-0A88BBA4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C1BCA-31A1-41AD-8BCF-70D29363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C867B-2278-4C61-9367-60615A7A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F8EDC-7899-4C1A-AE4A-2677DC64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505-AAB0-4D82-BC1D-B6E10F65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D8B12-CB04-4B16-BD89-7A51B2D0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9176-A044-43C0-877F-40F89489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04FB8-2CE5-4E54-8695-ECA0E223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92443-C5C6-41FB-8378-17944C91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5AF72-229B-4A26-AB85-2CDD9856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BE3A9-C7BF-4E97-8242-83014E3B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3467A-11D3-40FC-B415-7EAAEC94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3BAAF-063C-495E-91E3-FBAE3CAD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D667C-F911-4F8E-9AEA-C9D860C9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E0AA8-1EC0-45CB-A713-6A3EBEE0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DE66-EF43-435B-89C1-E97A62944B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69D2-6085-4E64-AFA1-8ECA3E6AE6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5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44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44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5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B7D0-4C60-4025-8A8D-F486CE40AB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DD63-2357-412F-8B85-F704F36996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8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8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B306-8B8C-4341-9512-C16E1A8E35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1EB1-1FEE-4736-BAD5-159E23E766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17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72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73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grpSp>
          <p:nvGrpSpPr>
            <p:cNvPr id="17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7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pic>
          <p:nvPicPr>
            <p:cNvPr id="17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8824-2530-4B56-9087-28C41CD044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2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2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22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2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50F-CBE7-491C-85BA-202E688503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7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27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4CF0-42FE-419C-995C-7DA182FB89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6169-3779-4F22-BE95-7CC7C4EE57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35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5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36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0382-73B6-46ED-89FB-1C39964BAC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8242200" cy="38289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464646"/>
                </a:solidFill>
                <a:latin typeface="Lucida Sans Unicode"/>
              </a:rPr>
              <a:t>18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ro-RO" sz="2800" spc="-1" strike="noStrike">
                <a:solidFill>
                  <a:srgbClr val="464646"/>
                </a:solidFill>
                <a:latin typeface="Lucida Sans Unicode"/>
              </a:rPr>
              <a:t>SEPTEMBRIE 201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5DD2-A4B9-480C-9533-313923716DC9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  <p:pic>
        <p:nvPicPr>
          <p:cNvPr id="496" name="Picture 4" descr="Image result for langues modernes"/>
          <p:cNvPicPr/>
          <p:nvPr/>
        </p:nvPicPr>
        <p:blipFill>
          <a:blip r:embed="rId2"/>
          <a:stretch/>
        </p:blipFill>
        <p:spPr>
          <a:xfrm>
            <a:off x="2286000" y="0"/>
            <a:ext cx="4495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perfecțion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/formare în domeniul discipline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F873-083A-4972-BF8F-0B1559784359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PORTOFOLIUL ELEVULUI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A776-1541-44B1-B11B-175264DF3025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prezint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85440" y="1417320"/>
            <a:ext cx="8001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lista conţinutului acestui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(sumarul, care include titlul fiecărei lucrări/fişe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etc. şi numărul paginii la care se găseşte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lucrările pe care le face elevul individual sau în grup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m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eseur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rticole, referate, comunicăr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fişe individuale de studiu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roiecte şi experimen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temele zilnic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981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robleme rezolv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apoarte scrise – de realizare a proiectel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teste şi lucrări semestrial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hestionare de atitudin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înregistrări, fotografii care reflectă activitatea desfăşurată de elev individual sau împreună cu colegii să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observaţii pe baza unor ghiduri de observaţi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flecţiile proprii ale elevului asupra a ceea ce lucreaz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utoevaluări scrise de elev sau de membrii grupulu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interviuri de evaluar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lte materiale, hărţi cognitive, contribuţii la activitate care reflectă participarea elevului/ grupului la derularea şi soluţionarea temei d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viitoare obiective pornind de la realizările curente ale elevului/grupului, pe baza intereselor şi a progreselor înregistr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omentarii suplimentare şi evaluări ale profesorului, ale altor grupuri de învăţare şi/sau ale altor părţi interesate, de exemplu părinţi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ltate ale lucrărilor de evaluare efectuate pentru teme din domeniul profesional sau abilităţi chei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ltate ale activităţilor de autoevaluare şi dovezi ale discuţiilor care au avut loc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opiniile elevilor privind activităţile desfăşur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lanuri de acţiune/ evaluări/ activităţi viitoare planificate şi efectuate de către elev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omentarii ale profesorului privind atitudinea şi rezultatele elevulu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36F1-91EB-43AA-9C21-5470FAD5EF43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PROFESORULUI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METODIS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Decizie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 numire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urriculum Vitae(Europass).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de evidenţă a inspecţiilor efectu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inspecţiilor de specialitate şi tematic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pie a rapoartelor de inspecţi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odele de documente de planificare şi 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proiect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are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 didactic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ă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nivelul învăţământului primar, gimnazial şi liceal, după ca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gi, ordine, note ale M.E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., 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H.G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vind  învăţământul preuniversita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ul formularelor tip folosit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 cadrul inspecţii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A005-BCE7-4D43-8789-03A1C98A7583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SPONSABILULU</a:t>
            </a: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I DE CATEDRĂ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ţi metodico-ştiinţifice ale catedrei pentru anul școlar  în curs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şcolare valabile în anul şcolar în curs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pentru examenele naţionale (bacalaureat) şi concursurile şcolare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ificări le calendaristice ale membrilor catedrei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rile 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dru pentru anul şcola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spectiv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abel  nominal cu membrii catedrei şi datele lor personale (telefon, adresa de e-mail, şcoala de provenienţă, grad didactic, specialitatea, vechimea în învăţământ etc.)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catedre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şi tematica activităţilor de catedră.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– verbale ale şedinţelor de catedră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atedră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SPONSABILULUI</a:t>
            </a: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 DE CERC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colilor arondate cercului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şefului cercului metodic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atica şedinţelor de cerc, data şi locul de desfăşur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-verbale încheiate la activităţile de cer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erc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PORTOFOLIUL PROFESORULUI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2E0E-080D-4D76-BDDC-27166C2E7E91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Substituent număr diapozitiv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132C-342F-4D48-BE6D-79376C92224C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7-09-17T19:56:54Z</dcterms:modified>
  <cp:revision>621</cp:revision>
  <dc:subject/>
  <dc:title>Comisia Nationala de Informatica</dc:title>
</cp:coreProperties>
</file>