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4E8-F545-477A-B7F3-AD1BF6AE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682-364B-4CB8-8095-63202398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F7C-59A8-4B28-B915-2442D849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5FE-EFE6-48F4-AE61-6EBBDF68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9173-AF9A-4657-BBB3-B1FA9355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8EB-C7FB-4822-AC6D-5AD3EA5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0136-4873-4F48-9194-7D8F2B7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3381-B466-4CF3-B156-CC66B0CB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24FB-0623-46AC-86BE-F46DA036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8EDC-85F2-401C-93D9-0521FEE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F3C-4BEC-417F-8DA5-CBAD3DE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571-3BB9-40CB-BFEB-8066C494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1254-B423-4767-AFA2-C3B03A29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533-673C-4804-8D75-BC432EC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2802-F2AE-44CA-A012-46778D9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DC8A-D8CA-4386-B454-72106368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2D91-F373-4D23-B0CF-6BEE18E8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625E-9E1A-4168-9591-8D02F130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2CE7-5662-46F5-99D1-872398F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6623-138E-4FF8-8803-D4BB8E5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36DC-A8FB-4346-A3AC-0C96E04A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7108-C63D-4011-9149-83464FF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9FE-90B8-47B1-A255-0949000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EB07-6EDF-4DBE-A5FF-D0CAECC1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D71A-B77B-4511-B8EB-7A38DAC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F217-8468-47E9-A05A-331E4CA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6C78-DD36-4B55-9F82-697C6AF5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DD97-005F-42BF-8FE2-256A50C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DFBA-A0B9-46FC-9207-F4A81458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9573-EC95-4E33-B12D-DD812238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9669-79F4-410F-90CC-D6D8B0C9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7CA8-3ADA-4121-9263-0092F42F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D7FB-2B62-457B-80E7-30FF81E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61A-EBAB-4044-8F3E-3E350D47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CB207-F142-4972-A76D-2FAFFAA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EF45-0B7E-4CFC-8D14-E698D46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12C1-69BD-40BE-B176-54D29F7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7647-722A-4FCD-94A0-0D739117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70B5-A8D3-4CD4-B0B9-C8803F7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0B67-4ECD-472B-AC54-CE243CD1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E5E8-7E40-435A-8738-95584FEB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3E3C-2B87-47BE-A3A8-EBE1AEFC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94B0-86CD-4AA0-908B-D5E1F31E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6F9-AB89-4BDC-B235-04E760CE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515-FC4D-4EC5-84AF-40A14C48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0F0-EEA7-4B0D-8E76-CEE05CA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84E-3909-4442-ACA5-07386AAD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7A5-BBED-4025-8FA8-11B305F5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E801-8F1F-4A46-B9C0-25B2F8F5E46F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0E85-48B1-476D-999F-7C2C32BC67D6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1878-EC40-4A68-8532-CA3D1A1AF1E0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541-D684-4E87-97D7-764B2D1B57E1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120" y="1599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Proiectarea, organizarea şi evaluarea activităţilor didactice 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o-RO" sz="3000" spc="-1" strike="noStrike">
              <a:solidFill>
                <a:srgbClr val="8ad0d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sociază elemente ale programei (competenţe generale, specifice, conţinuturi) cu alocarea de timp pe parcursul unui an şcol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Etap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asocierilor dintre competenţele specifice şi conţinuturi (extrase din programa şcolară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mpărţirea în unităţi de învăţare (teme stabilite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Stabilirea succesiunii de parcurgere a unităţilor de învăţare (stabilită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locarea timpului considerat necesar pentru fiecare unitate de învăţare, în concordanţă cu competenţele general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/ specific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şi conţinuturile vizate (stabilită de profesor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. Etapa 3. Proiectarea unei unităţi de învăţ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Anul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iectul unităţii de învăţar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Unitatea de învăţare: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Nr. ore alocate: 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3429000"/>
          <a:ext cx="8076960" cy="190512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ţi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808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ce scop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50532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 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0292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m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66294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ât s-a realiz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6002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32004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4686480" y="22860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6248520" y="2209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9828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ea competenţ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8380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1828800" y="3581280"/>
            <a:ext cx="152388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electar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onţinuturi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251460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3505320" y="3581280"/>
            <a:ext cx="1371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resurs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40384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502920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rea activităţilor de învăţ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5562720" y="2971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7010280" y="3581280"/>
            <a:ext cx="18288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abilirea instrumentelor de eval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3"/>
          <p:cNvSpPr/>
          <p:nvPr/>
        </p:nvSpPr>
        <p:spPr>
          <a:xfrm>
            <a:off x="72388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4419720" y="5029200"/>
            <a:ext cx="4724280" cy="914400"/>
          </a:xfrm>
          <a:custGeom>
            <a:avLst/>
            <a:gdLst>
              <a:gd name="textAreaLeft" fmla="*/ 0 w 4724280"/>
              <a:gd name="textAreaRight" fmla="*/ 3689280 w 472428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3990" y="72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7"/>
          <p:cNvSpPr/>
          <p:nvPr/>
        </p:nvSpPr>
        <p:spPr>
          <a:xfrm flipH="1">
            <a:off x="-720" y="5029200"/>
            <a:ext cx="4419720" cy="914400"/>
          </a:xfrm>
          <a:custGeom>
            <a:avLst/>
            <a:gdLst>
              <a:gd name="textAreaLeft" fmla="*/ 0 w 4419720"/>
              <a:gd name="textAreaRight" fmla="*/ 3451320 w 441972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8100"/>
                </a:lnTo>
                <a:lnTo>
                  <a:pt x="13990" y="81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8100"/>
                </a:lnTo>
                <a:lnTo>
                  <a:pt x="21600" y="81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lement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Tema (numele unităţii de învăţare) – enunţ legat de analiza scopurilor învăţării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Competenţe specifice din programa şcolară (numerele acestora);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ctivităţi de învăţare – activităţi pe care elevii le realizează în vederea formării competenţelor vizate; presupun orientarea către un scop, redat prin tema activităţii. Activităţile sunt propuse elevilor spre rezolv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Resurse – specificări de timp, de loc, forme de organizare a clasei, material didactic folosit etc. pentru fiecare activitate de învăţar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Forme de organizare a clase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Mijloace de învăţămâ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locare de timp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rice alte elemente util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valuare – instrumente sau modalităţi de evaluare aplicate la clasă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bs. la finalul fiecărei unităţi de învăţare se realizează evaluare sumativă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secvenţială a lecţiilor</a:t>
            </a: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Lecţ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onentă operaţională, pe termen scurt, a unităţii de învăţar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Oferă înţelegerea procesului din perspectivă operativă, tactic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Identificarea celor mai adecvate metode şi activităţi de învăţare; conceperea şi organizarea situaţiilor de învăţ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8600" y="2286000"/>
          <a:ext cx="8686800" cy="429732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elev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măreşte prelegerea, expunerea, explicaţ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imă puncte de vedere prop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cearcă să reţină şi să reproducă ideile auz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ează un schimb de idei cu ceilalţ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ă în mod pasiv ideile transm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umentează, pune întrebări cu scopul de a înţelege sensul unor id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crează izol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perează în rezolvarea sarcinilor de luc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6320" y="2133720"/>
          <a:ext cx="8839080" cy="4389480"/>
        </p:xfrm>
        <a:graphic>
          <a:graphicData uri="http://schemas.openxmlformats.org/drawingml/2006/table">
            <a:tbl>
              <a:tblPr/>
              <a:tblGrid>
                <a:gridCol w="1828800"/>
                <a:gridCol w="304776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profesorul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une, ţine preleg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ează şi moderează învăţ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ne puncte de ved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jută elevii să înţeleagă şi să explice punctele de vedere prop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nsideră şi se manifestă ca un pări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e partener în învăţ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28600" y="1371600"/>
          <a:ext cx="8686800" cy="539424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2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 de realizare a învăţă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memorare şi reproducere de cunoştinţe, prin apel la metode clasice şi vali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formare de competenţe şi deprinderi 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conduce la competiţie între elevi, cu scopul de ierarhiz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se realizează prin coope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0880" y="1447920"/>
          <a:ext cx="8458200" cy="5486400"/>
        </p:xfrm>
        <a:graphic>
          <a:graphicData uri="http://schemas.openxmlformats.org/drawingml/2006/table">
            <a:tbl>
              <a:tblPr/>
              <a:tblGrid>
                <a:gridCol w="1532160"/>
                <a:gridCol w="3498840"/>
                <a:gridCol w="3427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unoştinţe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ompetenţelor (ce poate face cu ceea ce şti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aspectul cantitativ (cât de multă informaţie deţine elevu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elementele de ordin calitativ (valori, atitudin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clasificare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progresul în învăţare pentru fiecare ele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evaluării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etenţele de evalua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forman</a:t>
            </a: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ţele minime, medii şi superioare pe care le pot atinge elev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specificul colectivului de elev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momentul (iniţială, continuă, finală) şi scopul (predictivă, formativă, sumativă) evaluăr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instrumentele de evalua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ea6312"/>
                </a:solidFill>
                <a:latin typeface="Century Gothic"/>
              </a:rPr>
              <a:t>Este necesară….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Identificarea elementelor definitorii ale curriculumului şi rolului aces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unoaşterea etapelor proiectării demersului didact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planificării şi proiectării didactice pentru modulele din programa școlar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Rol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Century Gothic"/>
              </a:rPr>
              <a:t>Curriculumul național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prezintă ansamblul coerent 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lanurilor-cadru de învățămân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și a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or școlare di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nvățământul preuniversit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Planurile-cadru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isciplinele, domeniile de studiu, respectiv modulele de pregătir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bligatorii și opțional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numărul minim și maxim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re aferente acesto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Trunchiul comun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disciplinele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urriculumul diferen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ţiat – disciplinele 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, diferenţiat în funcţie de specializ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urriculumul la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cizia școlii se constituie din disciplinele/ domeniile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studiu/ modulele de pregătire opțional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e școlare stabilesc, pentru fiecare disciplină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domeniul de studiu/ modulul de pregătire din planul de învățămân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inalitățile urmări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 competen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ţe generale şi specifice, valori şi atitudini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onținuturile fundamentale de ordin teoretic, experimental și aplicativ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ientări metodologice genera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peră 75% din orele de predare și evaluare, lăsând l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poziția cadrului didactic 25% din timpul aloc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ciplinei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omeniului de studiu respectiv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învățar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remedială, în cazul copiilor cu probleme speci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nsolidarea cunoștințelor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stimularea elevilo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apabili de performanțe superioare, conform unor planuri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individuale de învățare elaborate pentru fiecare elev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demersului didactic – activitatea desfăşurată de profesor care constă în anticiparea etapelor şi acţiunilor concrete de realizare a pred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Lectura personalizată a programelor şcola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lanificarea calendaristică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unităţilor de învăţar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lecţiilo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iectarea evalu</a:t>
            </a: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1. Lectura personalizată a programelor şcol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mersul didactic personalizat – dreptul profesorului de a lua decizii cu privire la un parcurs şcolar individualizat: asociază opti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elementele programei (competenţe generale, specifice, conţinuturi, activităţi de învăţare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alocarea de resurse (metodologice, temporale şi materiale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grama stabileşte competenţe, conţinuturi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fesorul poate opta pentru activităţi de învăţare, ordinea de parcurgere a conţinuturilor, mijloace didactice etc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mpetenţă -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gt; 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mpetenţ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-&gt;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nţinuturi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&gt;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Activităţ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generală        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  specific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 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&lt;-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învăţar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 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lanificare calendaristic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(Anul 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lar ....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Filiera teoretică, profil real, specializarea .................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3809880"/>
          <a:ext cx="8076960" cy="198144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atea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 de ore aloc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ăptămâ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a Calugaru</dc:creator>
  <dc:description/>
  <dc:language>en-US</dc:language>
  <cp:lastModifiedBy>Daniela Calugaru</cp:lastModifiedBy>
  <dcterms:modified xsi:type="dcterms:W3CDTF">2017-08-31T12:08:12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