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8573-E569-40FB-8A9E-A906C81A7E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CDF8-ADB1-4103-9868-E1F7409451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91FE-AB08-4A46-89CB-D78A6D29D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5128-AE4C-4D90-A223-228B92A860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BD67-F76F-40A8-9F3E-AE39F041E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361A-0718-466A-AA89-0E803A7D84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5D46-BADE-4132-9E85-1E6537178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F7A0-EFFF-454E-9BB8-E675D66F3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639A-629E-42ED-A4FC-499068E94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552F-ACE2-48D8-8442-7A787BDCF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66C3-5716-4E3C-ACFD-3F384151B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25EE-AFD5-4FF6-9FEC-845ECB30B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2FCF-DA9D-4A9D-B682-0A82E9A68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7C0D-5645-4B7D-9081-123206CA1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612F-264C-4947-9464-4977EFF08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C254-CCB5-4CF8-AA0D-DE077B741F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9D13-0FC5-443C-9728-9DCAB4D546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9470-F749-4061-A139-47C36407C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86D2-7F3B-448A-BBD3-F923F9AF4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E527-1CF6-47BD-92A9-14F36B06FE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06EC-F98D-4E68-9C24-A8A402A6F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9997-3D9F-4E9C-A4ED-09EC30652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D7C5-59F5-4D26-9724-439763AC0B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6C00-FFFE-4C4A-ADB2-9FC8DBB5C1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2FD-7933-4543-BD41-9957E456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355-3338-4D7C-B615-1C91CA18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6C2-FBEA-44C0-B988-98B46699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FFF-F342-4C5A-9227-07D5072D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8BE7-5A6A-45BA-9C4F-E2725490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7A1B-AE35-4AC5-B5C2-CD74C028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5647-A2BD-4C82-99EF-D1A8BE0D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BA99-01AA-4BE5-A6B3-6156E538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C557-86BA-42F8-99BA-F0CEF5D2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BC86-C8AF-45FE-9F24-4A8E2CCF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9A59-1676-4BBD-9050-717DAA9E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667-E55B-42FA-B532-8F4B4233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8F2A-287A-4533-8A2B-65C78B9C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8629-13E1-4980-A78D-F42F415F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67A9-0D2A-485C-99F3-1C2D0DA9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BD5E-C000-4D4D-8FFD-32E885E4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ECF7-6CB4-48D0-B6C6-5B3A7909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856-65B1-4022-8EC2-10E3B9A9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753-CCBD-4FB5-AB42-9F98D6F7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B29-67DF-4F65-9A61-4EF04157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6D5-3430-40AF-8E88-A24C7581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454-D894-49E0-927A-BA545524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BA8-EF15-4C94-A9A8-57C4596F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B97-9E21-4FA2-9F05-B996223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977d67">
                  <a:alpha val="85098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1CF9-385F-4DDB-AB0A-575777421A8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1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977d67">
                  <a:alpha val="85098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684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574560" y="5479920"/>
            <a:ext cx="8569440" cy="1368720"/>
          </a:xfrm>
          <a:prstGeom prst="rect">
            <a:avLst/>
          </a:prstGeom>
          <a:gradFill rotWithShape="0">
            <a:gsLst>
              <a:gs pos="0">
                <a:srgbClr val="977d67">
                  <a:alpha val="60000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A1C2-CB84-4E3B-8283-17E0D99DBEA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c_speranta@ise.ro" TargetMode="External"/><Relationship Id="rId2" Type="http://schemas.openxmlformats.org/officeDocument/2006/relationships/hyperlink" Target="mailto:c_speranta@ise.ro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ldr.ro/wp-content/uploads/2016/04/2.-Document_fundamentare_plan-cadru-gimnaziu_ISE.pdf" TargetMode="External"/><Relationship Id="rId2" Type="http://schemas.openxmlformats.org/officeDocument/2006/relationships/hyperlink" Target="http://www.ise.ro/wp-content/uploads/2015/07/Document-politici-curriculum_draft_mai_2016.pdf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edu.ro/sites/default/files/Lista%20GrupLucruCurriculum%20V-VIII_0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1680" y="2276640"/>
            <a:ext cx="40719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Programa școlară </a:t>
            </a:r>
            <a:br>
              <a:rPr sz="2300"/>
            </a:b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Consiliere și dezvoltare personală </a:t>
            </a:r>
            <a:br>
              <a:rPr sz="2300"/>
            </a:b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gimnaziu</a:t>
            </a:r>
            <a:br>
              <a:rPr sz="2300"/>
            </a:b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5643720"/>
            <a:ext cx="87487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peranţa Ţibu</a:t>
            </a:r>
            <a:br>
              <a:rPr sz="2400"/>
            </a:b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nstitutul de Ştiinţe ale Educaţiei Bucur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Sinaia, septembri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Programa şcolară Consiliere și dezvoltare personală gimnaziu</a:t>
            </a:r>
            <a:r>
              <a:rPr b="0" lang="en-US" sz="2000" spc="-1" strike="noStrike">
                <a:solidFill>
                  <a:srgbClr val="0849a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849a0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dezvoltarea potenţialului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ai albi"/>
          <p:cNvPicPr/>
          <p:nvPr/>
        </p:nvPicPr>
        <p:blipFill>
          <a:blip r:embed="rId1"/>
          <a:stretch/>
        </p:blipFill>
        <p:spPr>
          <a:xfrm>
            <a:off x="539640" y="285264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amila"/>
          <p:cNvPicPr/>
          <p:nvPr/>
        </p:nvPicPr>
        <p:blipFill>
          <a:blip r:embed="rId2"/>
          <a:stretch/>
        </p:blipFill>
        <p:spPr>
          <a:xfrm>
            <a:off x="3780000" y="2970360"/>
            <a:ext cx="2449440" cy="388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oacaze"/>
          <p:cNvPicPr/>
          <p:nvPr/>
        </p:nvPicPr>
        <p:blipFill>
          <a:blip r:embed="rId3"/>
          <a:stretch/>
        </p:blipFill>
        <p:spPr>
          <a:xfrm>
            <a:off x="971640" y="4653000"/>
            <a:ext cx="2665440" cy="194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Fetita in campul cu maci"/>
          <p:cNvPicPr/>
          <p:nvPr/>
        </p:nvPicPr>
        <p:blipFill>
          <a:blip r:embed="rId4"/>
          <a:stretch/>
        </p:blipFill>
        <p:spPr>
          <a:xfrm>
            <a:off x="6300720" y="3284640"/>
            <a:ext cx="2843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507672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1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50920" y="3284640"/>
            <a:ext cx="81374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ocupare pentru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tarea de bin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a copilului cu sine şi în relaţie cu alţ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ştintizarea propriilor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resurs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şi a mecanismelor personale de a face faţă situaţiilor dific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reşterea autonomiei în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învăţ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gătirea pentru 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“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lumea mare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”– </a:t>
            </a:r>
            <a:r>
              <a:rPr b="1" lang="en-US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arier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ă</a:t>
            </a:r>
            <a:r>
              <a:rPr b="1" lang="en-US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,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 prof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e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sie,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ocupaţie, meser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ocupare pentru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ănătatea personală şi a mediul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92360" y="1663200"/>
            <a:ext cx="51436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gimnaz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Fundamentarea pe date ale </a:t>
            </a:r>
            <a:r>
              <a:rPr b="1" lang="ro-RO" sz="24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ercetă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Review de literatură - competenţe, metode de implementare, metode de evaluare (ISE 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Dezvoltarea abilităţilor noncognitive la adolescenţii din România (UNICEF, 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Studii de caz – consilierea în curriculumul altor ţări (ISE,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orezu_BogdenP"/>
          <p:cNvPicPr/>
          <p:nvPr/>
        </p:nvPicPr>
        <p:blipFill>
          <a:blip r:embed="rId1"/>
          <a:stretch/>
        </p:blipFill>
        <p:spPr>
          <a:xfrm>
            <a:off x="179280" y="1773360"/>
            <a:ext cx="3024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“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etențele noncognitive sunt un concept umbrelă care acoperă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acele competențe care nu pot fi măsurate prin teste de inteligență sau de performanță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” (Kautz et al., OECD 2014). În literatură le regăsim sub diferite denumiri: competențe socio-emoționale, </a:t>
            </a:r>
            <a:r>
              <a:rPr b="0" i="1" lang="ro-RO" sz="2000" spc="-1" strike="noStrike">
                <a:solidFill>
                  <a:srgbClr val="0849a0"/>
                </a:solidFill>
                <a:latin typeface="Arial"/>
              </a:rPr>
              <a:t>soft-skills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, abilități de viață, inteligență emoțională, trăsături de personalitate sau caracter, calități morale. Se referă la un set de cunoștințe, abilități și atitudini care stau la baza succesul școlar și profe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67280" y="1663560"/>
            <a:ext cx="489744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Trei domenii de inter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șc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socio-emoț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ezvoltarea carierei (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American School Counselor Association – ASCA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riterii de selecț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maleabilitatea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– măsura în care s-a dovedit că respectiva competență poate fi dezvoltată prin intervenții de tip educaț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pot fi subsumate competențelor-cheie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, în mod special competențelor: sociale și civice, spirit de inițiativă și antreprenoriat, competența de a învăța să înveți, competența de comunicare în limba maternă, competențelor digit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omeniul școlar: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uprinde competențe noncognitive a căror bună dezvoltare influențează în mod pozitiv succesul școlar al elevil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x: concept de sine școlar, autoeficacitate școlară, autoreglarea învăță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omeniul socio-emoțional: s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 referă la acele cunoștințe, abilități și atitudini care îi ajută pe elevi să își gestioneze stările emoționale și să aibă relații funcționale cu ceilalț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x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mpetențe emoționale (exprimare emoțională, înțelegerea emoțiilor, reglarea emoțional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mpetențe interpersonale (cooperarea, disponibilitatea de folosi ceva în comun/de a împărți cu alții, sprijinul, comunicarea, exprimarea empatiei, oferirea de încurajare sau susținere verbală, în general abordarea prietenoasă sau amabil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49a0"/>
                </a:solidFill>
                <a:latin typeface="Arial"/>
              </a:rPr>
              <a:t>Domeniul dezvoltarea carierei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: se referă la capacitatea unei persoane de a se orienta în spațiul educațional și de munc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Ex: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 c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apacitatea de a căuta, colecta și înțelege informații, precum și de a distinge între cele relevante și cele irelevante; selectarea unei alegeri din opțiunile disponib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66920" y="1663200"/>
            <a:ext cx="4568760" cy="15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45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826920" y="3284640"/>
            <a:ext cx="770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5 arii de dezvolt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Autocunoașt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Dezvoltare socio-emoțional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Învăț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Carier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Stild e viața sănătos și ecilibr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1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500040" y="3141720"/>
            <a:ext cx="73580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4 Competențe generale (C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1. Adoptarea atitudinilor pozitive faţă de sine şi a unui stil de viaţ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Sănătos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ș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e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chilibrat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2. Relaţionarea armonioasă cu ceilalţ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în contexte școlare ș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extrașcol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3. Reflectarea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asupra motivației ș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eficacității strategiilor pentru progres în învăț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4.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Luarea deciziilor legate de continuarea studiilor şi carieră prin valorificarea informațiilor despre sine, educație și ocupaț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8 Competențe specif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76720" y="1628640"/>
            <a:ext cx="5867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</a:rPr>
              <a:t>Consiliere şi dezvoltare personală la gimnaziu (clasele V-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Baloane"/>
          <p:cNvPicPr/>
          <p:nvPr/>
        </p:nvPicPr>
        <p:blipFill>
          <a:blip r:embed="rId1"/>
          <a:stretch/>
        </p:blipFill>
        <p:spPr>
          <a:xfrm>
            <a:off x="0" y="1484280"/>
            <a:ext cx="2556000" cy="3024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2627280" y="3141720"/>
            <a:ext cx="62658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</a:rPr>
              <a:t>Timpul schim</a:t>
            </a:r>
            <a:r>
              <a:rPr b="1" lang="en-US" sz="2800" spc="-1" strike="noStrike">
                <a:solidFill>
                  <a:srgbClr val="0849a0"/>
                </a:solidFill>
                <a:latin typeface="Arial"/>
              </a:rPr>
              <a:t>b</a:t>
            </a:r>
            <a:r>
              <a:rPr b="1" lang="ro-RO" sz="2800" spc="-1" strike="noStrike">
                <a:solidFill>
                  <a:srgbClr val="0849a0"/>
                </a:solidFill>
                <a:latin typeface="Arial"/>
              </a:rPr>
              <a:t>ării: prez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If you don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`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t step forward, 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y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ou will alwa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y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s be in the same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are este modelul învățării la Consiliere și dezvoltare personal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714840" y="2786040"/>
            <a:ext cx="52149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experiențială (Kolb 1984: experiență concretă, observare reflexivă, conceptualizarea abstractă, experimentare activ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prin comunicare și prin observarea alt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reflexiv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Ciclul dezvoltării unei competențe (Pacearcă 2013: explorare, analiză, sinteză, reinvesti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are este specificul evaluării la ora de Consiliere și dezvoltare personal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857680" y="2786040"/>
            <a:ext cx="607212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Promovarea unei culturi a evaluării achizițiilor elevului și nu a evaluării elevul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Sultana, 2011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reflecția și auto(evaluarea), evaluare între egal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interviuri, proiecte sau sarcini specif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demonstrație multimed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jurnale reflec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simulări, demonstrarea practică a competenței, produse ale activităț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monitorizarea planului individual de dezvolt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portofoliul de învățare (proces și produs) include elemente semnificative din activitatea elevului, care reflectă nivelul atins în formarea şi dezvoltarea competenţelor cheie, oferind o imagine comprehensivă asupra progresului elev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228600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Resurse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lasa a V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0040" y="3141720"/>
            <a:ext cx="73580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314316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714840" y="2786040"/>
            <a:ext cx="48578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Sarcini de învăț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Reflecție, (auto)evalu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tinuare, aprofundare (acas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exiuni interdisciplin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663560"/>
            <a:ext cx="863604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oncluz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26920" y="2428920"/>
            <a:ext cx="77058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Programa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școlară Consiliere şi dezvoltare personal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la gimnazi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Un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ogram coerent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de consiliere şi dezvoltare personală derulat pe 4 a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Rol de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evenţi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, lucrul cu clasa de elevi, implică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toţi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elevii de gimnazi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silierea ca şi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ontinuum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(lifelong guidan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tribuţie la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ofilul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de form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“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Spa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iu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” pentru discu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ie, reflec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ie, analiză, planificare, empowerment, growth mind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silierul şcolar -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prijin, coordonare pentru profesorii diriginţ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Consilierea și orientarea în învățământul gimnazial, </a:t>
            </a:r>
            <a:br>
              <a:rPr sz="1800"/>
            </a:b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în contextul reformei curricul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1773360"/>
            <a:ext cx="48578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49a0"/>
                </a:solidFill>
                <a:latin typeface="Arial"/>
              </a:rPr>
              <a:t>My daily routin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49a0"/>
                </a:solidFill>
                <a:latin typeface="Arial"/>
              </a:rPr>
              <a:t>get up, be amazing, go back to b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49a0"/>
                </a:solidFill>
                <a:latin typeface="Arial"/>
              </a:rPr>
              <a:t>V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ă mulţumesc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Speranţa 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nstitutul de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tiin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e ale Educa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c</a:t>
            </a:r>
            <a:r>
              <a:rPr b="0" lang="en-US" sz="200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_speranta@ise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1" descr="Dare"/>
          <p:cNvPicPr/>
          <p:nvPr/>
        </p:nvPicPr>
        <p:blipFill>
          <a:blip r:embed="rId3"/>
          <a:stretch/>
        </p:blipFill>
        <p:spPr>
          <a:xfrm>
            <a:off x="4929120" y="1413000"/>
            <a:ext cx="421488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6760" y="1663200"/>
            <a:ext cx="827892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L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egea Educa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ției Naționale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1/2011 –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curriculumul naţional este centrat pe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formarea şi dezvoltarea/diversificarea </a:t>
            </a:r>
            <a:r>
              <a:rPr b="1" lang="vi-VN" sz="1600" spc="-1" strike="noStrike">
                <a:solidFill>
                  <a:srgbClr val="0849a0"/>
                </a:solidFill>
                <a:latin typeface="Arial"/>
              </a:rPr>
              <a:t>competenţelor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 cheie care conturează profilul de formare al elev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Clasa pregătitoare la ciclul primar, învățământ obligatoriu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– începând cu anul școlar 2012/2013. Anul școlar 2017/2018: generația ajunge în clasa a V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Reforma curriculară în domeniul Consilieri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2013 aprobare curriculum clasele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0-2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Dezvoltare personală (OM </a:t>
            </a:r>
            <a:r>
              <a:rPr b="0" lang="en-US" sz="1600" spc="-1" strike="noStrike">
                <a:solidFill>
                  <a:srgbClr val="0849a0"/>
                </a:solidFill>
                <a:latin typeface="Arial"/>
              </a:rPr>
              <a:t>418/19.03.2013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2014 aprobare curriculum învățământ profesional de stat cu durata de 3 ani clasele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IX-X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nsiliere și orientare (OM </a:t>
            </a:r>
            <a:r>
              <a:rPr b="0" lang="en-GB" sz="1600" spc="-1" strike="noStrike">
                <a:solidFill>
                  <a:srgbClr val="0849a0"/>
                </a:solidFill>
                <a:latin typeface="Arial"/>
              </a:rPr>
              <a:t>4437/29.08.2014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643120" y="5000760"/>
            <a:ext cx="328608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71840" y="1642680"/>
            <a:ext cx="6572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Document de fundamentare a noului Plan-cadru pentru gimnaziu (ISE 2016) </a:t>
            </a:r>
            <a:r>
              <a:rPr b="0" lang="ro-RO" sz="18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://scldr.ro/wp-content/uploads/2016/04/2.-Document_fundamentare_plan-cadru-gimnaziu_ISE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49a0"/>
                </a:solidFill>
                <a:latin typeface="Arial"/>
              </a:rPr>
              <a:t>OM</a:t>
            </a:r>
            <a:r>
              <a:rPr b="1" lang="ro-RO" sz="1800" spc="-1" strike="noStrike">
                <a:solidFill>
                  <a:srgbClr val="0849a0"/>
                </a:solidFill>
                <a:latin typeface="Arial"/>
              </a:rPr>
              <a:t> 3590/ 5 aprilie 2016 – aprobarea Planurilor cadru pentru gimnaz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Planurile cadru pentru învăţământul gimnazial precizează 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849a0"/>
                </a:solidFill>
                <a:latin typeface="Arial"/>
              </a:rPr>
              <a:t>omeniile 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şi </a:t>
            </a:r>
            <a:r>
              <a:rPr b="0" i="1" lang="en-US" sz="1800" spc="-1" strike="noStrike">
                <a:solidFill>
                  <a:srgbClr val="0849a0"/>
                </a:solidFill>
                <a:latin typeface="Arial"/>
              </a:rPr>
              <a:t>disciplinele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studiate pe parcursul fiecărui an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 şi resursele de timp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alocate aces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Document de politici educaţionale - Repere pentru proiectarea şi reactualizarea curricumlumului national (ISE 2016) </a:t>
            </a:r>
            <a:r>
              <a:rPr b="0" lang="ro-RO" sz="180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http://www.ise.ro/wp-content/uploads/2015/07/Document-politici-curriculum_draft_mai_2016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afele_Anemona"/>
          <p:cNvPicPr/>
          <p:nvPr/>
        </p:nvPicPr>
        <p:blipFill>
          <a:blip r:embed="rId3"/>
          <a:stretch/>
        </p:blipFill>
        <p:spPr>
          <a:xfrm>
            <a:off x="357120" y="1714680"/>
            <a:ext cx="21430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61672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Aria curriculară Consiliere şi ori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Disciplina Consiliere şi dezvoltare pers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                               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TC                      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-a  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I-a 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II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-a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Clasa a VIII-a           1                         0-2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TC=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runchi com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CDS=Curriculum la deci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zia şcolii (opţ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ebe superb"/>
          <p:cNvPicPr/>
          <p:nvPr/>
        </p:nvPicPr>
        <p:blipFill>
          <a:blip r:embed="rId1"/>
          <a:stretch/>
        </p:blipFill>
        <p:spPr>
          <a:xfrm>
            <a:off x="5867280" y="1700280"/>
            <a:ext cx="32767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5419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5572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Iunie-iulie 2016: constituirea grupului de lucru pentru elaborarea programelor școlare CDP (GLC 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2 întâlniri la București (august și noiembrie 2016 sprijin Euroguidance Româ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lucru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nsultare publică (decembrie-ianuarie 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integrar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avizare Comisia Nați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trimitere la ordin februarie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Bufnita"/>
          <p:cNvPicPr/>
          <p:nvPr/>
        </p:nvPicPr>
        <p:blipFill>
          <a:blip r:embed="rId1"/>
          <a:stretch/>
        </p:blipFill>
        <p:spPr>
          <a:xfrm>
            <a:off x="6215040" y="1428840"/>
            <a:ext cx="264312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643040"/>
            <a:ext cx="6072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onența grupurilor de lucru (toate disciplinele): </a:t>
            </a:r>
            <a:r>
              <a:rPr b="0" lang="ro-RO" sz="20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s://www.edu.ro/sites/default/files/Lista%20GrupLucruCurriculum%20V-VIII_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onența GLC 66 precizată și la finalul  programei școlar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ordonare MEN : Daniela Călugă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ordonare științifică ISE: Magdalena Balica, Speranța Țibu, Angela And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2 reprezentanți CND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15 cadre didactice (AR, B, CT, MH, MM, PH, SV), inclusiv coordonatori CJRAE, consilieri școlari, profesori diriginți de diferite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28760" y="6429240"/>
            <a:ext cx="54291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6162840" y="1785960"/>
            <a:ext cx="26953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1663200"/>
            <a:ext cx="4568760" cy="15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442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357120" y="3284640"/>
            <a:ext cx="81756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PROVOCĂRI la început de dr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regândirea programelor şcolare pornind de l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competenţe.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Ce competențe vom avea în vedere pentru această disciplin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regândirea demersului didactic din perspectiv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achiziţiilor final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ale învăţării și a unui model al învățării (Cum învață elevii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luarea în considerare a faptului că elevii din clasele V-VIII se află într-o anumită etapă 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evoluţiei lor cognitive și a dezvoltării socio-emoțion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asigurarea unui echilibru între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vechi şi nou (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Cum asigurăm preluarea elementelor de inovație, cum păstrăm ce a fost valoros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elaborare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competenţelor specific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în corelaţie cu activităţile de învăţare şi conţinuturile învăţăr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elaborare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sugestiilor metodologic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prin reflectarea specificului claselor V-VIII în ceea ce priveşte studierea disciplinei (Ce metode vom avea în vedere? Cum se va realiya evaluarea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Elena</cp:lastModifiedBy>
  <dcterms:modified xsi:type="dcterms:W3CDTF">2017-10-02T12:19:39Z</dcterms:modified>
  <cp:revision>38</cp:revision>
  <dc:subject/>
  <dc:title>PowerPoint Presentation</dc:title>
</cp:coreProperties>
</file>