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B9E-5ECF-43E5-99BF-BB11AB9B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3D4-EFF4-4B5E-8F04-AB49A1EC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28998-7DAF-4EE1-AD11-A14FADDA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CCBC0-684D-41F8-B042-3448EF8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6371E-6911-4541-A385-9EE5D4CF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4849D-4382-4E52-976D-96D296E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FD19B-48E6-49CE-9175-E37E07B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76F34-84A2-4B8C-8D96-8C443D28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A6793-824C-4D7A-A4EB-F1916320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AA9FA-E239-421A-A1D4-B03F4461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29265-41E7-4B67-9807-9C8D16A4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6214B-878B-4CD2-BEE4-DEF9B627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A44-C9B2-43C0-8A6F-AD522C98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3030B-2B91-4805-8B52-EF438294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62013-FBFF-446A-8A84-6B5BA59C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3FD9A-3B08-489B-AC6D-7C964E2C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21F94-2366-4E82-B52A-047902D0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189DE-AAC3-4548-A981-C5BA16CE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A9609-F4D5-4752-92A9-69DDE714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05CBC-22C3-4FD6-9D42-23AA48FF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330E1-05B8-4600-95B8-BA1FD93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B457C-B2CC-4CC5-AF78-32D079B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00AC4-8355-4C69-94D6-027806C6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38E-50BD-474E-B3B7-9D339A2A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665A3-FF71-460E-9153-C190E549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5C811-01B8-4A4F-B5C6-2C85F14E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C88DF-A70D-4A68-ADD9-0C43D0CB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96785-DCC0-4E50-B6B7-B9DB5B18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B31BF-E47F-4111-B332-80DC3EDA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1160B-5F0F-4312-B48E-2173F841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9C564-0C78-4502-A47D-021A14D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FDB6F-9F4E-4EF5-916C-4B924242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2A436-F414-44E6-AF59-DEE1040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49F73-02A7-44D0-8996-D7B1F3D3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841A-9CD3-473F-A388-B93B2BB4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BD9E9-90B9-4B50-8E8E-5ADFABE2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C328F-5B7C-405F-AB87-A5C1946B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9B5E3-4308-4AF9-BF11-AE69B7AD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5AD53-0079-4F82-98D2-3292A7F2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162BE-C816-4C6F-9192-F0D2CC49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ABE28-C456-4028-91A2-69EBF8C8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44034-EBA8-430A-A33A-82641784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4083D-EADB-49A8-96B1-2D8B761D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97A80-BD25-4C6C-A9BE-AB7DA790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CF75F-BF20-4D10-A380-DB50E312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EDB0-503D-4A5F-AD50-8C9A0A8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5A81C-6B89-4B80-863C-D5E1201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BB1A6-B720-42D1-8FEA-EBF488E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AA6A7-50F5-4D1B-89EA-8133122E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B20A3-87A2-4265-80EF-BB521407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64285-3B5F-4684-9A70-C31CDE15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C0922-3E9F-48EF-BE98-78D9D964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42AA4-53E0-40DA-B5E7-977C2A48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8C057-5AAB-4242-9983-60CF284B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4BAB8-0265-43F3-B647-AFF3604A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1CA8B-319E-407A-B9A4-50B85131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238F-2A28-4489-AECA-D7704B5E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DF496-E880-4A53-B320-F01F24B7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C3599-601B-4BBF-8DFC-08D69C9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F233E-FFB4-4830-A333-A9DE70F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06B26-258F-4FDA-94C5-B9B5D135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3AA6B-7119-486C-ACC9-8D166A9D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FAEEA-1ED8-41D2-A7A1-EA976E1F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AD2C7-3570-4EA1-BFE3-BA7CE3E5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FCCF8-73E2-4386-A020-AD6BF074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202FD-E032-4BEA-9006-6B5602D8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61B4B-6F54-4BF1-80E0-67498E3D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4DFF-D80C-4864-914D-AC0A6960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13D36-F279-4AB2-B533-E30195B9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99F5A-1B91-4F29-AE73-4E6920FF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BFD44-8B87-4B0E-9A18-072A8444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A1078-A524-4AA7-A194-D536F225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E955D-EF2A-4E9D-86CF-A8FD01A5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67696-E3FD-480C-83AB-8B031E73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9D88B-110A-4292-BFD3-29989446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A3430-3F41-4E42-816A-894791CD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A8519-1066-4538-9428-E04A761E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310BB-9C4E-4A54-9FA0-256498F3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257C-32D1-42B5-A94E-F963C520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03180-2222-4AF3-B038-59C94391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B3B04-6014-48AC-92A6-CB1E7929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3E5AF-DE1D-484F-AC7B-AE58AFE0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653AD-F285-49D3-A9C7-0DBCAF6C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61CEC-ECA8-47C1-B876-49592A9A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90D21-FE1A-48AA-B82B-666AA3A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FFD72-8B16-42DD-913F-5A25514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FA781-6F41-4379-908F-4D586EBA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AE990-B334-4DE4-9319-AABCC9A4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8910F-DF01-47E2-A9C1-4669A47A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9DEC-2A30-4C32-B870-A0B34141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7B611-6D9D-413C-A71E-A10B0611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B770B-991D-4B26-8E1C-491C18A6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595DD-3D38-4B5C-AB90-0C13D7E0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DE7AD-D4A6-402D-8103-BB612F23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1965C-A8F6-4DD7-ADE4-4BD551EB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429AD-0FD8-446B-BD83-C86364F9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C33F1-AB68-43B5-80FA-019A6D3B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2B316-E031-43EC-B9FE-0FDD09C0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62592-E1BC-4A2E-88CB-4D36E351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A08CB-6DC9-4F88-9D1B-5298A22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A095-3F5F-42BC-B3C1-75E0670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0127C-381E-4B40-AE9C-89939197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A7F18-A50D-4E69-930F-3B383404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71B30-4C16-4065-9447-CFA4F3BA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2A044-91B3-465E-BA16-B870A994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A738C-CC71-46CC-8F39-AAE14CBB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9615E-72FB-4CD3-9590-71F030A6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928FE-4FD1-4B65-99E8-BC5D605C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409B8-1285-498F-8F89-7F48C08E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8B1F4-4749-44F6-A9D1-F6CA5700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600FE-B9EC-47E6-8859-A329427F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C3A-4444-48C1-AD66-11EB84B7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BB60-BED8-4CE0-8507-3ACDF257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34955-FD9F-4C97-AF4F-59BB9841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7DA0BA-3627-4ECD-9087-4AE177D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3EDA1-0E01-4CB5-9A51-61BD1451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7207E-F15F-492F-9572-C906C5C0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8BD1E4-FA74-4FA5-AA86-35E3A164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3EDE8-56D8-4F58-BC3E-D0C7636F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C02AB-AFB2-4863-A414-E45776F2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B7136-C4D2-461D-B2C6-DCCEC5CA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A9D0D9-42C7-4DD1-86C1-248041A6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C2488-E9E9-4305-99F5-5320096F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EC5C-74ED-4C9A-B509-2B25430D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8A8F7-4527-4AAB-ADDC-BE37F787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366D4-AE0C-4320-BB60-858E5A8E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018C1-5CFE-4435-B6E3-4D61391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4A31AA-7F0F-43BE-848E-8D2D64BF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F43AD-3DAF-47F3-AF08-A184D730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E65D9-238E-4316-A43F-2E074146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0FA08-8E84-403D-99D8-3969C943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EC3C4-4417-405F-A474-49093612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5209C-B6EB-4E5B-95B9-75C9D08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F4C887-4E8D-4F82-87DC-17E9676E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01F5-235D-4C04-B0DC-9410E1C0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E42FB-6427-4B9B-9A77-CCDDD1B8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7C99B-7226-4F63-A6C0-1F6D2A2C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3DCE8-B165-4DC1-8BF4-B8596237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9C2C4-1537-4B75-882A-8251F354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CF2F63-0E75-4401-BEF9-7BC89DE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AA347-1D97-4BAD-A049-7A1EB498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47F221-1359-470F-81A1-79BB84DD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25C63-C3F9-4A44-A299-4EB2A59A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C5530E-D4C8-4773-B47E-A4C953DC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1A82A-2DC1-4FCB-94A1-842EB413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8975-3A6B-4079-8BD4-9B04861C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DB068-CC20-49AF-8E61-BE2B37F6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8EA1D-E00F-41FE-9892-E818B93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EB062-B22C-44F3-9934-6360A6CB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552E4-1A96-41A4-9013-B162561A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BA3564-4B43-45E6-9EA4-ED87114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1BBCA-942D-4C1D-9F72-BBAB39E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24243-C495-4C65-BD28-44FCC47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F956F5-596F-4FB4-B8A0-73F1BF8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43984-4622-46F7-BC6F-CD6D2B56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4E987-1C0C-42F8-AA47-2F794EAE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F699-8838-4F9C-A952-4EC8658E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087DB9-43B5-417B-9088-5C4E51F3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72957-C584-4310-BB36-824F5BA2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8533D4-00CD-4615-BB2E-0B803E0A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5C9FE4-7152-42C6-B144-A76EB64D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8A9B4-D573-4D3C-9F36-F60DBEA4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447DD7-2B11-4A30-8AD4-06342022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8B5A7-D601-48D5-BFDA-14A25FC2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0FC689-1512-4E22-9175-1FF01088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71D89-0480-4666-8A0C-BFCF3C79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25D61A-7F50-47E4-877A-6ACF9C43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7C95-8898-4872-9D0D-B4230EC8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C46BF-BE88-4452-8B6F-A19A4DFD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53D5AA-ED47-4E4E-B410-0C40E872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9BE44C-9CD5-4770-8C6A-FA82C67E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9DD9DB-37E6-4C5A-91CC-F9B46AA6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1CFB2C-4039-4363-AD0A-26A939D4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830A21-FCA5-4EC8-A682-5F9BEA82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814229-CD1C-4E93-9008-F98EF283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44A64-C865-4556-B771-C6690C18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329CD9-75B2-408B-8189-BAF89284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745DEC-FF08-4F42-B2EC-B71D9587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7FD3-A8E4-4745-A450-BFE48B95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8D6B62-EE10-4B4F-B2A1-C8214D54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02DD45-48E5-4D55-AC28-7A80DE4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FFF1F0-5ECC-49FA-BC66-2AA16D62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7FFA3B-B77B-41E0-8CBF-47131491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AC2B0F-3EC2-4147-AB40-492D5F7E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E4038C-7911-4895-9DDA-B6C8C004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B3DECF-C14A-4A57-821B-728A7164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4E2B11-E4A4-4E26-9944-42FF1836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2FBE53-962C-49D8-913A-308DA8C3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C7B46B-C011-4984-A607-E3FD6C49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F314-B3D2-4BB7-B073-E1E100D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9A34AB-9820-41BD-B685-6223C5B5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C4151A-C764-4F55-A199-169E9801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51936A-A4F5-4F61-B64A-61F0DA54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247FA-984C-4816-B6C3-99A2A18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FC1AB9-6678-40F9-B7EB-7CC2D80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85B67-59DE-4C98-BFFE-22ED1A4C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849244-86EA-4519-BB6D-D7B0EFB0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C4FF04-1E50-4D5C-898F-4FDC326E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C4F13D-40A6-4134-8E81-5996A872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1261D3-3DB9-45F2-8620-4A9F1432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A9F4-CEC7-4576-B6CA-111202C9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7A0F26-0EE1-4CC1-AEE2-A9F2FB75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3B3D54-8B56-4DD6-A578-BDD65378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30E41D-FD32-42D1-BCD3-24027AA2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286D1B-B98B-4C8C-959B-CCAFA757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1E91E6-7F19-40E5-B5DC-4945D9C9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3FF6A6-D3EB-4432-9B98-E7C0694C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5E9F17-8D3B-4089-8429-DEB5557B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2982F2-FA56-49B9-9C8A-79968D8A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4004C7-B488-4169-B980-F224E480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19455A-102C-47A8-8095-2DF7B365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244A-23E6-4C57-BDE2-73A7CEF9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25E221-4D2D-45B8-93FC-C485BF60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59C739-C398-45A0-9673-0FBE2F5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7A8AA4-5356-4A93-AEE5-F1061685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B9B2E1-368E-4404-8A76-23A425A9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03087D-5E8A-4D34-80FD-9310D810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F9471F-5A57-46D4-A753-A821D13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00C515-390F-4900-9AF9-281807AE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D7D128-5E55-4A6A-A057-D9ED73E2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94381D-22D5-4376-8EF6-6F903B0F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934F7A-2F56-4464-9DD1-E01381DF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35F-C2DA-4832-871F-5DF59322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B7C5-00EA-4CBD-8D21-DF54A80F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7B09BD-BEFB-415B-A8A5-CEEAA241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21C02D-508D-4C43-9EBC-04454814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AEBFE7-68B4-40BB-8F19-A15F195F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0307CF-EFD5-4C0B-81BD-9C202F2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844B40-EC35-4427-B746-9EDDA045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BB5BFD-04F6-47A2-B747-FF223CD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4B63F0-A8DA-4A7B-A626-E718057D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932BC0-FA0E-407D-9F16-57050A6B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03AB2E-8781-492F-BF05-C6C0E8A1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D1C769-9768-4291-9940-AE3D2C2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7B0E-DFEF-4B3A-B027-7266AA48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3524C5-7C03-4933-898E-B8A52A4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21DEFA-6378-4B29-9CAF-CCFE8CA7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D21B49-9F58-44E6-81F0-E468B3A7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495B8B-4948-4902-8A72-797A785C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73C63B-27BE-438E-B02B-827E9F44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8D0672-8431-4C02-8973-FBC3AA1C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532BC8-50A2-4FC2-A26D-8F5FA034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AB4A90-3146-4753-9E34-D1A49BF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B2776B-7BC0-4264-B6C7-52456A2D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4A1405-2278-4E9E-AF21-93E0332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9222-B225-4A7E-8C2B-1C43D125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07D85A-97B3-4DCA-82A0-9E2C016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83D462-59B7-4C6A-9932-7E69B003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771D98-95CF-4BDE-89B9-396C210F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609C7A-B3C9-4662-A8B4-818DFEC1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4EA002-BC12-4F76-8F0D-AE0DB937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018D1F-55B4-4E0C-B9C8-E9756129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8352B1-A68B-4855-8F14-5B4C5BDB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D8CC5B-5BA2-4B91-8912-6BFA6BD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046BF1-2439-43DF-963E-1172560A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69A2B6-DE83-450C-A628-BD99E6A2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9652-0A89-4FFF-8F39-EE01A9A6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7643EB-28F0-4C68-89CB-CCA54D8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E47652-2B0B-4895-B27E-9F951F3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DD92F7-26E0-4580-B0A1-C9FBF69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A3E952-C6DF-4376-9B66-00A0A63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C84A78-CBA3-4DB5-A80C-03740E0B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B9B7AC-6672-4770-AF6F-C956E7CB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604284-A4DB-4AA0-9BF5-7B435A4C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60687B-AE30-4D7C-A251-DC9F26C7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D2382E-3DBB-43F6-BA12-F03B8A14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C667C7-C117-4B68-8125-4D954DFE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56F6B-A8E6-4E4F-A138-63453EFD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DC4123-3C57-43F4-961D-1671E791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23D364-60DB-4D92-B7DE-AC8D52B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DAFC5C-D6BC-4977-B106-02C37F7C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48D9AA-2BCF-4ED2-9088-54C75C63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D4F2AD-E7F8-4CFE-A048-A5702E5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ACFF97-C664-487C-AB4F-2E103F6E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616B42-4BDD-45C1-96FD-63DC3F64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53560E-E7D2-4250-9ACA-06AB3067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1D18EB-168B-45E5-BA1D-9728DC9F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33EDAA-E4ED-4E1B-AF21-14D82508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433B-8B4B-4070-A226-2CCBD1D8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8B361B-914D-4234-B213-46EE2CBE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2D41B7-5635-4E7F-9A80-C035C895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2927FE-06FA-41DC-B000-07D0A93B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F4568A-17FD-4EB2-96BA-90A8F01B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0F11FC-B449-4440-AD5D-21B9727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61D1B4-293E-4E96-9BF7-B24A3CA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4D79FD-918E-4A69-9030-0565345C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E201C9-AC75-4717-8883-EF7C034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500640-85C7-4AEC-9C35-8A695927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87B0B4-91FB-4554-82DC-D6973417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2D73-2D2F-4397-BC01-70EDC2F1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CA959F-CFAF-4AB9-9973-0BFB7593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A51FA1-7FA4-43DA-A606-750F1A8E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60433F-5082-4369-99AD-58070FEF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5B4629-DC25-4808-AF41-6714F4CC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430E87-396E-4E8B-9CA7-1CB931BB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C0F9A7-190E-4778-8B99-45AB80C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260B4A-10F6-4E6C-A08C-DB84CAC2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6DDDB4-7288-48D5-9BA9-09C4DA3C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46659E-0212-4743-960E-44C19758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7A2F34-C3D4-416F-B089-04EA726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2956-B95A-4A4E-A4DA-DA3FB8CA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E7D255-27F4-4C9A-8831-D16C2BBE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81E4FB-E31F-451B-A6F2-61F856C6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4843FA-A237-497F-A94E-7935B2BD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523BFF-CA87-4715-8DDA-60CC1ED6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064AD2-245B-40B1-9F48-47D18B8A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262473-66FB-482B-BB79-AC4166E3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8E3758-1B07-49B1-BDF5-DE3B53D6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7D5F2A-D044-411E-934A-C0CC9F77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34AA16-5A1E-463E-BE2A-B0BADE20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F9EF66-CCF7-4906-B56B-9C6FC06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CA1A-3006-4FC0-A80E-ABC0140F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D9C8FB-A2AE-4C5B-B106-3D082D12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9B0892-339E-41EC-952F-8A4DA2D0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8D167C-3D63-4DC1-BA56-D2012550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6B9A57-9049-4A9C-A6FF-B8F0E0E7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F77B97-D63C-4587-B144-290A29A9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7D3528-B6C9-4B53-8730-9015F23E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5A1A57-1E2E-42E9-BD5B-7E8F1E1D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423D92-9630-4D76-8E0C-0C75A7CF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D5A9DA-D9A2-455C-84AE-C56D3E10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ACD1A6-DA6A-437C-AD06-12152DA8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367F-E684-465F-B279-46514F31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17FB21-B5CF-4F10-A4F6-6F36CE7C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0C99BD-0881-4173-AD46-034E2BF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F91D57-4E51-4364-89DC-F6B4D16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D107B6-2454-45D0-8257-C97EDA6A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DA592E-1E2E-4E79-AB16-8CAB1CD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C152B6-CE0C-46B5-9877-E8C80886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F3E8D8-0018-49D8-9206-2BAB6597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B8383C-A48D-4E23-96A5-2B42FA9B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51EF28-8F7F-4D1F-89B7-CD0059BF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B23677-1938-45F3-B6D5-40FE9D24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F84-7596-4CB4-A3FA-EF5FDA3D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F51AB-53B2-4F46-B25C-36E4F35C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C8B286-8548-4A9C-A0A4-C215852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4462E9-3484-4BF7-84B6-84108FA8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67D727-4504-4EE8-AF9E-37943E18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1CAE4F-DB78-4B9C-95DA-E7B84585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FCFFC3-09DA-4FC9-BC9F-F05B0A16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6F33B2-9446-47BA-84B2-3A5A4539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F77EA7-AFE0-4116-A403-7652E404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1218C7-1407-47D7-8E05-36E662EC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377876-7BA8-4823-9E82-72FA2EE1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DC05-C446-4D41-AF70-80656093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F2F1-896A-4CEA-8842-0F23121D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2CBE-93CD-4086-B2C1-490CF924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8667-2EFB-44CB-9D34-5D11B1A7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2D25-74C4-4E07-95D7-472A610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9DBA-15F2-4CAF-A676-FF4D6275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8E41-374F-46B9-B903-9EDA82EC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F7192-F735-4687-A3D2-69DA8BB4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EE7A-92F8-4A46-9FC0-AF5F16D9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DB7-389E-4AAF-B865-25FD3065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18577-2DAD-48C9-8D83-A2D615B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6740-BA6E-432C-AC51-5EC8C582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638A5-1054-4154-A1A4-7C12BA48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875CE-523D-4DB4-A0A7-9ED1CEDF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88613-A341-47A6-B9B2-63FAA47A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2671-E167-4F92-B088-79A9212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D15C2-2A38-41E4-871A-BE97BB4E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55B27-0C2D-4EC3-AF58-CB0B78B6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6398-0C78-489D-8260-FDDD7BA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F6377-5E42-458C-B04B-F7A74E23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3CF-4A7D-4414-884C-F53C3118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A5DAE-7B78-410C-A678-A5EC33AD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0E456-D8AF-419B-8532-E605ABBD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7BDB9-B27C-4016-9A5B-5FA914D2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69316-B118-4D6A-B39E-823E7149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F99CC-52AB-48A8-8D7E-39C3E14F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CE28-9D1A-4AFD-8A12-CBB4EFE1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67D7-A7A8-4B55-BBC2-52921DF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EB6CC-B7D5-4967-B499-19DF3EFE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1ED79-EE6D-40C5-B954-AE49FCD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90FD9-8B91-4D51-8091-D73831E7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753-9622-4BFF-85F9-5337CFD1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AB4E-B679-43C3-822C-08E2421D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94D0A-D4EC-49FD-8590-5BC09B2F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FEDE9-6A49-4880-AEF3-B32A9CDA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15A1F-7C4D-4642-BFF2-2811FD68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4F49D-3A81-4B07-B9EB-1232048A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CCBBD-79DA-4AF7-82FE-EB2E848C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112DD-8481-4719-AEE5-F9BF55E0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24C74-B3E0-4BF1-AF68-AA87639A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CA834-ACE4-471C-ACE0-55E6B87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512FA-AD09-42DA-AFEB-F9B2B0FE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466-2B1F-489A-B284-89354E87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FD28A-7BC3-4FFD-943F-D0EC83E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458AD-1BB3-4B96-AF35-8CBD53B4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DF3E1-C8CD-452B-AC9D-59A05F80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032DD-2BDD-464A-B98F-D914254B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4752-AD61-42C0-8BF3-F5B03B90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0303-FE2D-4723-85E5-0F63650C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321FC-F3DE-45A6-B791-75859D05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1FAA7-FAB2-4E1D-882E-4CD13C1F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237DF-EEE3-488A-BDB8-DEB0EBFC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92AE4-64F8-4F84-81EE-9067D8D7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50A-4734-4F8F-B00B-81F87C0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3241F-A88F-4FA4-8391-4AFCC524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A569D-F15F-44CD-9FCA-11A3DFD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9AE18-BFEB-4ED8-8C71-5D9FBED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D499F-5D63-429D-94D0-F675639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B78E3-0C06-413E-9D66-EAF6F3F5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977B0-7034-4B77-AE5F-494CE929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26EFF-5A22-4B06-8018-2568CF10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32E77-BC53-4A14-B900-C37BE012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D6219-05F1-4642-8013-73BFC28C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12473-50A5-434E-B727-1ACAE199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57AE-48FA-4403-B41F-313F740EB39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A75-0ECA-4A6B-9220-934B0DE7B4E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EED9-751A-438E-A3D5-7B280C593F7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2AC-F6A2-42A5-B723-E06B8E9F31A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4603-CFE2-44A3-A6EB-6D5F9AF31C6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0ECE-5323-42D9-AABB-D1ECB17F829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1F68-CFED-43DF-8848-6FD69A6DA78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3EED-58A2-4F7C-9095-39167A56C06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DD36-8755-4880-9F7E-3FD6BC20D9D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8570-88D6-49B9-B865-7F1EEDDE23CE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1A8-5495-462E-953D-1907ABD94A6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A532-CAC8-4C4E-ADE4-498A2374E69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BC37-FFA8-4EB2-B2E5-C803FCDB7D3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ED6-3FEB-4CCF-B181-3A948C6C10B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4D87-9DF2-4545-AF70-3BF1A202FFA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FDD1-E7B5-47A5-AEF9-3A8EBD5BEA0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6275-CEFD-441E-906B-F9FAF0E10E1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8B41-A6D0-4464-A48C-3B123CDD3B0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E4A-BEDB-4BD0-8DB1-D80FF0D6B07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8714-DE9B-45A8-922D-43F90F32CAB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66A1-BBC9-40D0-BADB-DD9C3E0FFCA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1DBB-31A7-4A42-9399-34129D213BD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094C-CFA4-4EE6-B062-3A4D91058E1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BF60-5D4E-42C6-B043-7BA06CF18A9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B18F-D284-4B52-BC3F-91064C4B679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F29D-D703-411E-8D4B-ED88B554EE4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17A-7013-44AE-896A-388F4AEEF40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D014-4D38-47D9-BCF1-331B07D16AD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8FB-BCF5-4349-B291-9811F0FC3EA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B680-2E04-4B9D-93B5-B0B73702CA0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7731-6A91-4762-A8D9-088B92FC756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1A59-B719-4F28-85E1-62588E8B833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E433-6CA3-43B0-A758-CDCEF106517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CAE0-15DF-4D8F-BBCE-66AB3051332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ograme.ise.ro/actuale.aspx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manuale.edu.ro/" TargetMode="External"/><Relationship Id="rId2" Type="http://schemas.openxmlformats.org/officeDocument/2006/relationships/hyperlink" Target="https://www.manuale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biecte2019.edu.ro/" TargetMode="Externa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066400" y="247680"/>
            <a:ext cx="8915400" cy="464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CONSFĂTUIREA PROFESORILOR DE 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LIMBI ROMANIC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1689120" y="4776480"/>
            <a:ext cx="101044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17</a:t>
            </a:r>
            <a:r>
              <a:rPr b="1" lang="en-US" sz="2800" spc="-1" strike="noStrike">
                <a:solidFill>
                  <a:srgbClr val="00cc00"/>
                </a:solidFill>
                <a:latin typeface="Calisto MT"/>
              </a:rPr>
              <a:t> </a:t>
            </a: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 SEPTEMBRIE 201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430280" y="623520"/>
            <a:ext cx="100742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 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1751040" y="1904760"/>
            <a:ext cx="9431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 de organizare a secțiilor bilingve francofone incluse în proiectul bilateral franco-român “De la învățământul bilingv către filierele universitare francofone“ aprobată prin ordinul ministrului educației naționale nr. 4424/28.08.2014, publicată în M. Of. nr. 658/08.09.2014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Convenția de parteneriat nr. 9801/29.08.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(recunoașterea și echivalarea DELF A1, A2 sau superior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cord de colaborare (nr. 43 /DS/ 04.02.2014) între Institutul Francez din România și Ministerul Educației Naționale privind recunoașterea participării cadrelor didactice la activitățile de formare continuă realizate de Institutul Francez din România și acordarea de credite profesionale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1531800" y="623520"/>
            <a:ext cx="9972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1698120" y="2042640"/>
            <a:ext cx="9806040" cy="38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Protocol de colaborare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între Ministerul Educației Naționale și Asociația Română a Profesorilor de Limba Franceză privind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implementarea unei serii de acțiuni</a:t>
            </a:r>
            <a:r>
              <a:rPr b="1" lang="ro-RO" sz="32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culturale și educative adresate elevilor și cadrelor didactice pentru promovarea limbii franceze și a francofoniei în învățământul preuniversitar</a:t>
            </a:r>
            <a:r>
              <a:rPr b="0" lang="ro-RO" sz="32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nr. </a:t>
            </a:r>
            <a:r>
              <a:rPr b="0" lang="fr-FR" sz="3200" spc="-1" strike="noStrike">
                <a:solidFill>
                  <a:srgbClr val="000000"/>
                </a:solidFill>
                <a:latin typeface="Calisto MT"/>
              </a:rPr>
              <a:t>11372/ 12.12.2016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617480" y="553680"/>
            <a:ext cx="945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OLIMPIADE ȘI CONCURSURI: REGULAMENTE, METODOLOGII SPECIFICE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-cadru de organizare şi desfăşurare a competiţiilor şcolare şi Regulamentul de organizare a activităţilor cuprinse în calendarul activităţilor educative, şcolare şi extraşcolare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– aprobată prin OM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EN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 nr. 4203/2018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ctualizarea Regulamentelor specifice de organizare și desfășurare a </a:t>
            </a:r>
            <a:r>
              <a:rPr b="0" i="1" lang="ro-RO" sz="2400" spc="-1" strike="noStrike">
                <a:solidFill>
                  <a:srgbClr val="404040"/>
                </a:solidFill>
                <a:latin typeface="Calisto MT"/>
              </a:rPr>
              <a:t>Olimpiadelor naționale de limbi moderne,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onform OM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N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 4203/2018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Calibri"/>
              </a:rPr>
              <a:t>Rezultatele olimpiadelor școlare (naționale și internaționale) la disciplina LIMBI MODERNE, aferente anului școlar 2017-2018, se găsesc pe site-ul ME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1456920" y="1673280"/>
            <a:ext cx="100472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PREDAREA – ÎNVĂȚAREA – FORMAREA COMPETENȚELOR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Centrarea predării pe formarea competenț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Relaționarea formării competențelor cu evaluarea acestora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Accentuarea dimensiunii conștiente a învățării,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prin proiectarea activităților de învățare care să stimuleze gândirea critică și creativă a elevilor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Crearea unor contexte de învățare care să determine exprimarea perspectivei personale și creativitatea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aborarea unor sarcini de lucru care să evite simpla reproducere a unor informații, a regulilor gramaticale, a canoan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Utilizarea elementelor de noutate (input audio – video, sarcini de lucru diversificate, atractive, atipice etc.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2588760" y="1611360"/>
            <a:ext cx="89154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VALUAREA – EVALUAREA COMPETENȚELO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area și diversificarea activităților de evaluare astfel încât să stimuleze gândirea analitică, sintetică, creativ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Elaborarea itemilor/sarcinilor de evaluare pe competenț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Utilizarea unor sarcini de lucru diverse, inedite, atractive, care să stimuleze participarea elevi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Calibrarea testelor de evaluare conform nivelului lingvisti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FORMAREA PROFESORILO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2060280" y="1363680"/>
            <a:ext cx="9443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Valorificarea inspecțiilor efectuate în proiectarea activităților de formar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Includerea, cu prioritate, în cursurile/sesiunile de formare a componentelor de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conținut științific și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metodic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Accentuarea dimensiunii creative a proiectării didactic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Alocarea unui număr mai mare de ore activităților practic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Mentorat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ul CRED (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Curriculum Relevant, Educație Deschisă pentru toți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INSPECȚIA ȘCOLAR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laborarea documentelor de proiectare didactică conform programelor în vigoar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plicarea programelor școlare de limbi moderne la gimnaziu; 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plicarea eficientă a programei școlare pentru clasele cu program intensiv/bilingv de studiu al unei limbi modern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decvarea procesului de predare – evaluare la fiecare regim de studiu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Respectarea programelor școlare în raport cu criteriile de evaluare specifice examenelor finale de absolvire/de admitere în învățământul liceal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ograma școlară – clasa a VI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2588760" y="1352160"/>
            <a:ext cx="8915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lemente de noutate – Programa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ste structurată pe formarea – evaluarea competențelor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clude procesele de construcție a competenței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dică tipuri de activități specifice formării acestora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relaționează  subcompetențele cu norma lingvistică și conținutul adecvat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face referire la modalitatea de evaluare a competențe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sugerează tipuri de activități de evaluare specifice fiecărei competențe/subcompetenț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stimulează exprimarea punctului de vedere și creativitate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644920" y="1084320"/>
            <a:ext cx="8804160" cy="41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SPO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ȘI OAMENI BUNI ALĂTURI, ÎN ANUL ȘCOLA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2018 – 2019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588760" y="5181120"/>
            <a:ext cx="8915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o-RO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1531800" y="623880"/>
            <a:ext cx="99727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C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ADRUL NORMATIV PRIVIND ORGANIZAREA 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PROCESULUI DE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ÎNVĂȚĂMÂNT, ÎN ANUL ȘCOLAR 201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8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-201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9: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355" name="Content Placeholder 2" descr=""/>
          <p:cNvPicPr/>
          <p:nvPr/>
        </p:nvPicPr>
        <p:blipFill>
          <a:blip r:embed="rId1"/>
          <a:stretch/>
        </p:blipFill>
        <p:spPr>
          <a:xfrm>
            <a:off x="1109520" y="2255760"/>
            <a:ext cx="94615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ahoma"/>
              </a:rPr>
              <a:t>TRUCTURA ANULUI ŞCOLAR 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8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-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9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061640" y="2133360"/>
            <a:ext cx="10442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Structura anului 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ş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colar 2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8-2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9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a fost aprobată prin O</a:t>
            </a:r>
            <a:r>
              <a:rPr b="0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MEN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nr. 3.220/19.02.2018</a:t>
            </a:r>
            <a:r>
              <a:rPr b="0" lang="ro-RO" sz="1900" spc="-1" strike="noStrike">
                <a:solidFill>
                  <a:srgbClr val="ff0000"/>
                </a:solidFill>
                <a:latin typeface="Calisto MT"/>
                <a:ea typeface="Tahoma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Cursurile anului şcolar 2018-2019 încep luni, 10 septembrie și însumează 168 de zile lucrătoare (34 de săptămâni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tructura anului școlar cuprinde semestrul I (10 septembrie 2018 - 1 februarie 2019) şi semestrul al II-lea (11 februarie 2019 - 14 iunie 2019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Vacanţele elevilor din toate ciclurile de învățământ sunt programate astfel: vacanţa de iarnă (22 decembrie 2018 - 13 ianuarie 2019), vacanţă intersemestrială (2 - 10 februarie 2019), vacanţa de primăvară (20 aprilie - 5 mai 2019) şi vacanţa de vară (15 iunie - 15 septembrie 2019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uplimentar, clasele din învăţământul primar şi grupele din învăţământul preşcolar beneficiază de vacanţă în săptămâna 27 octombrie - 4 noiembrie 2018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Pentru clasele terminale din învăţământul liceal, anul şcolar se încheie în data de 31 mai 2019, iar pentru clasa a VIII-a, în data de 7 iunie 2019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Title 1" descr=""/>
          <p:cNvPicPr/>
          <p:nvPr/>
        </p:nvPicPr>
        <p:blipFill>
          <a:blip r:embed="rId1"/>
          <a:stretch/>
        </p:blipFill>
        <p:spPr>
          <a:xfrm>
            <a:off x="2030400" y="457200"/>
            <a:ext cx="9588600" cy="137808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1496520" y="2114640"/>
            <a:ext cx="100076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Calisto MT"/>
                <a:ea typeface="Tahoma"/>
              </a:rPr>
              <a:t>● 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OMENCS nr. 3590/5.04.2016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Plan-cadru de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învățământ pentru gimnaziu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M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Tahoma"/>
              </a:rPr>
              <a:t>EN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 nr. 4221/01.08.2018 privind modificarea și completarea Ordinului ministrului educaţiei naţionale nr. 3590/2016, privind aprobarea planurilor-cadru de învăţământ pentru învăţământul gimnazial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lanurile - cadru  și programele școlare valabile în  anul şcolar 2018-2019  pot fi accesate la adresa:  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ea typeface="Tahoma"/>
                <a:hlinkClick r:id="rId2"/>
              </a:rPr>
              <a:t>http://programe.ise.ro/actuale.aspx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"/>
          <p:cNvSpPr txBox="1"/>
          <p:nvPr/>
        </p:nvSpPr>
        <p:spPr>
          <a:xfrm>
            <a:off x="2090880" y="831600"/>
            <a:ext cx="9378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OMEN nr. 3027/08.01.2018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entru modificarea și completarea Anexei - Regulament-cadru de organizare și funcționare a unităților de învățământ preuniversitar la Ordinul ministrului educației naționale și cercetării științifice nr. 5079/2016 privind aprobarea Regulamentului-cadru de organizare și funcționare a unităților de învățământ preuniversitar (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odificarea și completarea </a:t>
            </a:r>
            <a:r>
              <a:rPr b="1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rt. 66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– privind atribuțiile catedrelor/comisiilor metodice în elaborarea ofertei CDȘ și selectarea auxiliarelor didactice și a mijloacelor de învățământ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Regulamentul – cadru de organizare şi funcționare a claselor cu  predare a unei limbi moderne în regim intensiv sau bilingv în unitățile de învățământ preuniversitar – aprobat prin OMEN nr. 4797/2017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968480" y="449280"/>
            <a:ext cx="886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-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Manuale școlare -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1"/>
              </a:rPr>
              <a:t>https://www.manuale.edu.ro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2"/>
              </a:rPr>
              <a:t>/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– OMEN nr. 3022/2018 privind aprobarea auxiliarelor didactice din învățământul preuniversitar (anexă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omologate în perioada mai-iulie 2018, în vederea utilizării lor în învățământul preuniversitar (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3"/>
              </a:rPr>
              <a:t>www.edu.ro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 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919160" y="398520"/>
            <a:ext cx="888696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1054080" y="1709280"/>
            <a:ext cx="1061568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Recunoașterea și echivalarea rezultatelor obținute la examene cu recunoaștere internațională –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</a:rPr>
              <a:t>aprobată prin OM nr. 5905/2016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evaluare națională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13/29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;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Admiterea în învățământul liceal și profesional de stat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– 4829/30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1700" spc="-1" strike="noStrike">
                <a:solidFill>
                  <a:srgbClr val="ff0000"/>
                </a:solidFill>
                <a:latin typeface="Century Gothic"/>
              </a:rPr>
              <a:t>Candidaților, care, în clasa a VII-a/a VIII- a, au obținut premiul I, al II-lea sau al III-lea la etapa națională a olimpiadei de limba engleză/ franceză/ germană/ italiană/ spaniolă/ rusă, li se recunosc rezultatele obținute la olimpiadă, în baza diplomei emise de Ministerul Educației Naționale, și li se echivalează cu nota 10 la proba de verificare a cunoștințelor de limbă modernă pentru admiterea în clasele a IX-a cu program bilingv de predare a unei limbi moderne de circulaţie internaţională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bacalaureat 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30/30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 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Model subiect - </a:t>
            </a:r>
            <a:r>
              <a:rPr b="0" lang="ro-RO" sz="17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subiecte2019.edu.ro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 (1 noiembrie 2018 )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</a:rPr>
              <a:t>model pentru proiectarea testelor de evaluare curentă și a celor pentru teze (clasa a VIII-a și a XII-a 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461/27.08.2018 privind aprobarea Calendarului de administrare a Evaluărilor Naționale la finalul claselor a II-a, a IV-a și a VI-a în anul școlar 2018-2019.              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5" name="Picture 2" descr=""/>
          <p:cNvPicPr/>
          <p:nvPr/>
        </p:nvPicPr>
        <p:blipFill>
          <a:blip r:embed="rId1"/>
          <a:stretch/>
        </p:blipFill>
        <p:spPr>
          <a:xfrm>
            <a:off x="2625840" y="522360"/>
            <a:ext cx="80787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6" name="Picture 2" descr=""/>
          <p:cNvPicPr/>
          <p:nvPr/>
        </p:nvPicPr>
        <p:blipFill>
          <a:blip r:embed="rId1"/>
          <a:stretch/>
        </p:blipFill>
        <p:spPr>
          <a:xfrm>
            <a:off x="2558880" y="1606680"/>
            <a:ext cx="8178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08:59:18Z</dcterms:created>
  <dc:creator>Rodica Cherciu;Manuela Delia</dc:creator>
  <dc:description/>
  <dc:language>en-US</dc:language>
  <cp:lastModifiedBy>Micky</cp:lastModifiedBy>
  <cp:lastPrinted>2018-08-23T12:17:35Z</cp:lastPrinted>
  <dcterms:modified xsi:type="dcterms:W3CDTF">2018-09-16T19:23:24Z</dcterms:modified>
  <cp:revision>85</cp:revision>
  <dc:subject/>
  <dc:title>CONSFĂTUIREA INSPECTORILOR ȘCOLARI PENTRU LIMBI MODERNE</dc:title>
</cp:coreProperties>
</file>