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F41B-987E-4B17-8860-66B0DB05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2A2-901F-4870-A7D0-D217991A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E159-09B6-4BF2-8064-7CB44A98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0C36-C20F-458E-9744-C09E8338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43EA-D745-483A-853B-5BC690F3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2E0-57BC-4B5A-892E-A0B3799F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711-758A-436F-A61E-16F68F0A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6588-E012-4999-A2A7-03C3B702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964-E360-4F26-B8E4-461ED1DD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E5E-2290-4D28-B36F-8DAB14FA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41A-9171-43D1-9ED6-AC3C0CCD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01A-7ABC-4A3B-AD84-8D06D7C9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93F24-78AE-45C8-8075-5B1A6E6C41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60560" y="353880"/>
            <a:ext cx="874080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Black"/>
              </a:rPr>
              <a:t>Elemente de noutate ale programei școlare pentru discip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17520" y="2290320"/>
            <a:ext cx="96217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CHINEZĂ/ ENGLEZĂ/ FRANCEZĂ / SPANIOLĂ / ITALIANĂ/ TURC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/ LIMBA MODERNĂ 2/ 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Black"/>
              </a:rPr>
              <a:t>GERMANĂ/ RUSĂ/ JAPONEZ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9400" y="619200"/>
            <a:ext cx="9905760" cy="47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1) CENTRAREA PE COMPETENȚE DE COMUNICARE ȘI NU PE CONȚINUTURI LINGVISTICE SPECIF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4840" y="263160"/>
            <a:ext cx="95850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PRECIZAREA NIVELURILOR DIN CECRL LA INTRAREA ELEVILOR ÎN CICLUL DE ÎNVĂȚĂMÂNT GIMNAZIAL, PRECUM ȘI A NIVELURILOR AȘTEPTATE </a:t>
            </a: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LA FINALUL CICLULUI GIMNAZIAL (a)</a:t>
            </a:r>
            <a:br>
              <a:rPr sz="2600"/>
            </a:b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- limbile engleză, franceză, spaniolă, italiană -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03400" y="3105000"/>
          <a:ext cx="9943920" cy="292608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  <a:gridCol w="3314520"/>
              </a:tblGrid>
              <a:tr h="96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NIVELUL DE COMPETENȚĂ LINGVISTICĂ AL ELEVILOR LA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ÎNCEPUTUL CLASEI A V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INALUL CLASEI A VIII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 INTENS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3000" y="534960"/>
            <a:ext cx="93758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2) PRECIZAREA NIVELURILOR DIN CECRL LA INTRAREA ELEVILOR ÎN CICLUL DE ÎNVĂȚĂMÂNT GIMNAZIAL, PRECUM ȘI A NIVELURILOR AȘTEPTATE LA FINALUL CICLULUI GIMNAZIAL (b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58800" y="1944360"/>
            <a:ext cx="93916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- limbile germană, rusă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27200" y="3094200"/>
          <a:ext cx="7709040" cy="2031840"/>
        </p:xfrm>
        <a:graphic>
          <a:graphicData uri="http://schemas.openxmlformats.org/drawingml/2006/table">
            <a:tbl>
              <a:tblPr/>
              <a:tblGrid>
                <a:gridCol w="1882800"/>
                <a:gridCol w="5826240"/>
              </a:tblGrid>
              <a:tr h="7714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el CEC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ăr de ore necesar pentru atingerea nivelului în gimnaziu GE/ 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B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6320" y="1787400"/>
            <a:ext cx="102427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ETALIEREA FIEC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I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OMPETENȚ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GEN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AL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ÎN COMPETENȚE SPECIFICE, ULTIMA COMPETENȚĂ SPECIFICĂ FIIND DE NATURĂ SOCIO-CULTURAL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re 1"/>
          <p:cNvSpPr/>
          <p:nvPr/>
        </p:nvSpPr>
        <p:spPr>
          <a:xfrm>
            <a:off x="976320" y="361944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Gothic"/>
              </a:rPr>
              <a:t>4) PREZENTAREA DETALIATĂ A RECOMANDĂRILOR ȘI A SUGESTIILOR METODOLOGICE, PRECUM ȘI A STRATEGIILOR DE PRED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808200" y="1639800"/>
            <a:ext cx="10399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5) PREZENTAREA DE EXEMPLE SPECIFICE FIECĂREI LIMBI, PREZENTAREA DE TEME RECOMANDATE CE EVOLUEAZĂ PROGRESIV DE LA O CLASĂ L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741240" y="2603520"/>
            <a:ext cx="104666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6) PREZENTAREA DE TEME DE PROIECT INTRODUSE PROGRESIV DE LA UN NIVEL LA ALT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741240" y="3830760"/>
            <a:ext cx="1085544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7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EZENTAREA GRAMATICII 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FUNCȚIONA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 ÎNTR-O DUBLĂ PERSPECTIV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TELOR DE VORBIRE / A FUNCȚIILOR LIMB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 A ELEMENTELOR DE CONSTRUCȚIE A COMUNICĂRII CE CONTRIBUIE LA REALIZAREA DIVERSELOR ACTE DE VORB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988920" y="108252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8) PREZENTAREA DESCRIPTIVĂ, ÎN ANEXĂ, A ELEMENTELOR DE CONSTRUCȚIE A COMUNICĂRII SPECIFICE  FIECĂREI CLASE /FIECĂRUI 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1139760" y="2738520"/>
            <a:ext cx="100044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Calibri"/>
              </a:rPr>
              <a:t>9) INDICAREA RESURSELOR ON LINE UTILE PARCURGERII PROGRAME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1055520" y="3879720"/>
            <a:ext cx="9875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10) CORELAREA PROGRAMELOR ȘCOLARE PENTRU LIMBI MODERNE CU NIVELURILE DIN CECRL, PRECUM ȘI CU INSTRUMENTELE CONEXE - REFERENȚIALUL PENTRU CECRL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LIMBA FRANCEZ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>Manuela Delia</dc:creator>
  <dc:description/>
  <dc:language>en-US</dc:language>
  <cp:lastModifiedBy>Micky</cp:lastModifiedBy>
  <dcterms:modified xsi:type="dcterms:W3CDTF">2018-09-16T16:57:30Z</dcterms:modified>
  <cp:revision>25</cp:revision>
  <dc:subject/>
  <dc:title>Elemente de noutate ale programei școlare pentru disciplina</dc:title>
</cp:coreProperties>
</file>