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F98-8118-4209-B0A7-7F2B1A4FE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847-7278-4C0A-913F-20A98A4D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EABF2-BE7C-49C6-B910-89CFEB12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107CD-8868-4B0C-8F75-12AAFD0B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0FB35-95F0-43E5-A42E-01169100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88B39-A7D6-4815-9BB6-983BC812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06670-FF97-4CA1-A0B9-F4750A1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E9A57-4FB4-45DE-87D9-5BC11440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FA48B-C6BF-4CBC-A5F0-E0EBA73A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1D378-395A-4A95-BC9A-09498F51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2D64B-182F-4AF9-B05F-EC41AC9B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0DBD8-622E-4DC4-9C49-DE51216B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52B-BB9B-4C29-B736-4BF16A1A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CF9E2-41EA-4F87-AD8A-27F47FC7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2B810-6B83-4F63-8FB9-6B5D6325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806D2-8237-4B81-889F-43394CC5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76A87-43E4-430B-AD6B-C4DC6163F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0F405-D255-4DA6-B8F0-223DC4A5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977DC-EF49-4A2A-B2B1-EB4CA3BC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6F289-05F0-41DE-9E06-3714618E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88E70-3B5E-4494-9899-71C04D69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91AD9-E9FB-4DFA-95E4-8D8A4AA6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36B04-A5CE-444F-A77C-2F09B6B7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0C3-1B8B-48A5-A6AE-342E0952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1FC04-0F2F-46E6-9C59-27FA603A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2A003-3C22-4C36-A264-3CD9B892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3114C-404F-4C9F-9F7B-DB759400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2758DA-F248-4EA8-BEC5-6F5FB55A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2B9EA2-438C-411A-9EB0-B367A274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F6DB1-8FF7-4E51-943E-EC526AB1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AA300-8D4E-484F-95C3-2C024507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6050A-DBDF-40C1-923E-CEA565AF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82776-3A52-4EF9-B3C3-053B207E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D09A1-ABDF-48A6-90DA-6CBA30D1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D99D-DF30-4347-83A8-8254E12E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8C6F8-E227-4024-8354-859B5905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345AD-3B30-41CB-830C-CBB129B9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F2C35-A527-45F0-B85E-3E6E41C7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70CFB-93CC-4EBD-BF7B-475CCDB8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DE7E9-893C-4985-969A-7D8D5A75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0A773-4E23-4045-BB70-F38CE929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9A5BA-014E-4F10-9BB0-2025AB01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E0E60-4133-4D9F-8595-76A04F50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B83B4-C97C-4AB5-B7A5-B3E25FC8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D73EB-17F5-4325-9BAA-D8B0BDBF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8356-2D5A-439E-BC30-45D2EC05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6ECF8-2732-4735-8CB2-459BD78E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344A6-AE35-4CCC-9BD5-19C1511C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AF2F5-CA27-4C0C-B287-6302DC74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C23F0-D570-4FC1-9B83-625002C9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2D46A-21E1-457C-B032-0D46A9C1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8A585-F8ED-483C-A39F-48BC153C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895936-0DBC-4D29-8182-C6F3591A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C6392B-83EC-4D90-A672-D72F15EB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4FD03-8765-4D92-AE37-29466B35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7BA2C-C9DE-47F2-8704-E586EF6C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008A-E24F-499C-9C84-94D55B2D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DF7D9-4052-48AD-A510-79F41BBC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CCCE3-6F96-48CA-9032-60A7F9C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B1AC94-891C-4513-A4E9-8F00594A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7D600-D446-4C7C-9528-AABEF101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CC3DC-DD02-44E0-9526-B00BF4CC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A4071-C535-4C67-89C1-D9EB890E2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21B71-31F4-45B1-8E9D-73C8DE23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CBEFE-0116-4172-AECA-51EC5403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D48B2-5192-422B-A5A0-5097D95B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6EEF9-7452-4AE8-8C62-F699427D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EC0D-8A70-483A-BC2A-9D9759CA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83AC9-C9A7-45D8-86DA-39F03702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79339-7E24-44DE-B072-5DD9CF36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B9C8E7-58CA-486E-A8A1-597DFBCC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FA218-255E-430A-AC2C-1080A0C3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0D1746-A487-49EB-81B2-F11C298C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B4DF6-D949-40D8-A95B-C88B7380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1C999-BE4D-4974-BD89-143F15BE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D88A9-54C9-4373-8C6C-A3AAFAAA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8667E-F4A2-4242-9BA2-F164E5DBC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EB1C32-6FA3-47B0-81C4-FA371A49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7AAA-4990-4CB5-9F10-9D407AD2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E186A-E6B9-4A63-A569-2DF042CE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B43C0-C774-4D09-AD84-ED891402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3104AE-F07F-497D-93F7-441FC22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47166-A35E-4C07-AAA8-0AB31AB1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ED3A3-FAE8-43ED-BA16-9954956F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F9623-FB84-40E9-8E96-317849FF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4F4522-AFEF-4E28-8E91-24473D4B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96CF0F-9958-4F1E-A477-1B16E209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90D9E-4030-4C63-AC48-B77E218A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B9B337-C3DA-40A3-8C9A-3767761A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157F-7426-4985-8D10-BA6EBBDA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08677-FBDC-4356-B671-2D88B1B8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5060F3-EE04-4894-952D-90D2F6E7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036530-5046-4D70-AEF1-AE2DDAE6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665ABD-20D2-4DCF-AB2D-3781B409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86442-E152-4525-B7B4-11E83A11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78E25-F203-4DA0-AA2F-ACF879E5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F36F71-2ABD-4F1F-BCCA-FD2E6F4D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B0E85C-C7C8-4636-A593-47C31B20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10D3F-0DA4-465C-AB87-7D2C849D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6BFB10-AD2A-4266-B505-EA574298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450F-A2CD-42D7-A737-35EE9613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43625-1226-4576-8EC2-ACDDC242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AD0AE1-C7EF-4732-8846-A6E01E70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7B3F3-608A-45B8-B892-FC4DDC89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AEFA14-64FF-47CD-A7C0-DE61D66D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24CFAE-CFA2-44FA-B670-CC9FC270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84F91-BFA7-49ED-8F68-445C9135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D6751E-338E-4CA9-B733-E240155C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EC72E6-8BCE-4161-8FF3-3428BF4A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5214E-C7AC-4FA1-A0CA-940C8876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577784-86B3-4A9F-B6A4-178304B2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671-74A9-42E7-A9EA-DE74FCBC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0142-752A-462D-B178-8BB517CC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32493-E479-4FFB-82B5-874A359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A1C9F-F64A-4470-9695-73158000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4268F-27E9-439C-A96C-40C5F276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3AE20-5535-4799-8FB5-001C51EC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1F966-A6CB-461E-BD19-539A75C4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B1EFF-084C-4279-B3CB-55D9F455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CEB28A-D11A-4517-A398-5AF97899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23BBF0-95A6-49F9-992C-EDCA004E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34A1D-F623-4EB2-AAC1-2B573745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A956A7-7CB2-4253-AA85-19D8F50B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9A13-1E7A-4105-A1DF-D290038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5FB83-D7E3-472F-BD06-10B57561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B6EFA9-03B3-44F3-9D04-36E2CAA7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6D4F97-B37C-43C8-8E73-B8F004A6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4A4A36-56A8-429D-8220-1E489D33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4CCFB-A89C-4587-8623-3F3C96A5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6442A1-4292-4045-9163-F3975696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A58E0F-C404-4EF0-BC3C-465D69E30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31CDB-29F7-4520-9ED9-0393BC7F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B5CC2A-2999-4C22-8E96-50E51C9F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93B9A6-427B-4797-A6FC-D517051E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3D9C-D294-4945-81EF-3948B35F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916BFC-9370-4C07-9CAC-70441BD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8278C-36B9-46D1-A64E-23158037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3C751-FD3A-4CDE-ACDB-7AB52746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485F1A-5118-44D3-9E04-033902D1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D9F69-74EE-418D-8D57-C8D2A3FF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08376-3D2C-4D02-9C67-58324E4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75E10-4DCC-4FFE-9F9A-D7DF0CDC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0DF85E-282F-4A42-8E51-E1F3F351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053E71-A645-4216-8453-7227EF1E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1E77A-D3D6-4CF8-8799-E6766872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2CDE-66D9-40EB-BDEB-E8207AD7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AF52DF-AB52-415D-A6AC-B8C9EB41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70B90-FF4E-4EDB-9293-6573CFE6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143D61-043C-4D10-887D-CD38AA39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530C4-B7FD-4CC7-927B-8DC49D20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BE318-A6E6-4837-B601-C2A973AF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9CCF7-AC84-4DDB-B78A-522C0DA8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92042-E2A7-40CD-BEAB-C8469728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6F7D54-182D-44E9-8ADC-C0628186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7950A-9EC9-4345-8FAB-5BF98143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E4DF2-5E58-4C55-BE96-9630C4A5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40F9-A7A7-4885-9B51-9B7D8E06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D7BDB1-3B5E-42AA-983B-C6D16FEF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22AD30-EE85-4D63-BD67-FF797148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B6376-24CE-4779-BDDC-5B8A2D8F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1B9C02-8F2E-4E3B-B5D9-84EBE2A4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D16F8-E39B-4328-B033-84FA6F6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22117-20DB-488F-B819-B74FCFC4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51F565-F310-4E07-B6A2-8C454946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3B2A5F-7282-4C3D-87E3-D69077EF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FE067D-A447-48D4-B92A-74C6347D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7A260-7D17-4468-96DF-4B3A7315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CAA29-0307-4DA7-9A87-D33B7D95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0C91B8-4AA8-45DC-92C8-DA52D3BF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CCA35-65B4-4B3B-AF3D-540B9C1C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C9C873-CC77-41FD-B51D-AB35257FE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A9F485-0339-4DA1-96C4-B7C922AC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2B9677-8613-4BB6-B4A4-FFDAB97E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26BB25-8E6F-4B0D-9452-9846AB3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E59033-0CCA-4EBD-A485-ABBEE1EB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6A8705-2F79-409A-86E5-D86302F1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DD3108-874B-41CB-956C-074CFDA9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9D338D-8114-4BEA-853E-CDEFF5B5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42ED-4585-4F00-A4A7-A2EFF5A4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B7C42C-F51B-467D-81A0-A038148A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55F7D4-EEEF-47C1-B611-8F8EF1E5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6A65EE-AF9C-41F9-8C7F-05584C90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CA505-F99A-46B8-A22B-78103ED2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FF5D6F-D4E8-42D0-8188-FBB17AFF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F6C8C0-9CF3-46B7-A13B-7DB80A7B2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736CC6-DCC0-40B3-AF95-E4DE014E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2F84CA-4D1D-4CEF-947C-2C995C36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A7AA46-E093-4ADD-B7DC-A62C7A4B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FAA9B9-5FF5-4BA7-AD83-CD98E82A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46755-1FE3-491E-A200-D8703660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5E0682-EE36-410D-9AE6-76941094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51CBBC-7B21-4875-BEAC-9EC36F8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D0003A-3E1D-4483-892E-228E972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E6A0BD-771B-4B41-878C-120DC65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017D9B-C8A8-4923-94C7-F335142F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8C39B2-F354-4443-AF9D-BDDE23B0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03334B-5F76-45EA-BBB3-1BFA1963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2DDC1A-7D9A-4391-BB66-C2A6897E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8C23B7-7DCF-4F76-AF11-5DEA40CF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A49D74-1566-4857-9124-A9E4A182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2CC10-C3B8-48DF-8CE5-C467FF26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5C0D58-B12E-4F09-92C7-9AF44CF0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A42250-C916-40B5-9F71-87AF0F41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29D328-44BA-49B1-AFB6-0A13FE240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DEC1FC-B803-404A-AAD7-468FC2FF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C64493-64C3-42F1-8910-9B0375AF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3D8A95-BC32-4053-B779-F61E7DC4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0729C9-88C2-447B-9FD4-3DE0052D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F8C878-5136-47EE-8857-A9A181109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856ABE-19B4-4A5D-9D76-CC4BC34F2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C4471F-490B-4EFC-92CC-07FB8D5E5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B735D-2E9E-4781-B68C-65AC2263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2110CD-4F8C-433D-A307-2B016282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348D51-7B75-42E9-B01D-C79632F9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4B6ECE-48A9-4186-A4B2-5B0CBCAD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2EBC45-7D0B-4F20-BF60-2867EE5F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D0634A-DE83-4174-9AF9-E0CC908D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320A40-C5B4-4052-945B-28D1359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DDC24A-A1ED-49A3-9D98-2E519BA0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4772B4-FCA4-47CA-92B2-D99EF49E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8A8156-1C85-4120-AF92-363C5488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9C34C1-4136-4CC3-867A-93434DD9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82F-A06B-49E4-B6F7-00AE2366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14F5-3073-4671-9F84-1146C656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D6F0EC-DCE7-41DD-AC25-C66FE496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1BC895-363D-48CE-A896-1F1A6C90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4634F5-7321-4BF1-9B19-C7533E47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13FAE0-968E-4E1B-805F-1E5669D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3B03A6-CB04-4E8A-8280-CF622FEA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99A2F3-D336-4796-B6FC-502C2A9A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5562CF-6705-485B-999C-B9ABD64F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EBA844-D038-407A-9250-82790498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325897-A63D-41FF-97E9-D917E78A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038A35-ECBA-4C09-9636-F45272B9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25F81-F73A-4568-A310-82D7B2FE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F7F286-31BC-4246-8A2A-FB40AFB2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7E4550-F9F0-40CF-B6C1-578E0E64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083199-46D7-406F-A4CB-0067AABC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AC53A1-07D8-4F3E-97E6-035C4D7D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82096F-2044-4B6E-9E98-99B0AC8A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50799D-A45D-4C5B-AEA2-B4A6E6D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A37154-CFC5-44D6-9DE5-6BAB9897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1AED08-081F-4ECB-AF33-74F2EF8E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35E578-9D1E-4D15-81F9-46FA121E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754458-DA10-4244-84B5-C8587172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A2D40-085D-44C3-91A8-82455A72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99AFA7-4153-4BE3-92A6-FB965AA9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B820F5-620F-4429-A256-8CD6C5A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CD7F01-2614-4AB1-9734-5C5B548F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BBF62D-DC59-4FA9-A31B-2C0DB01F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434ADC-07A6-4633-B918-66A7C1A1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10E851-6240-4037-B1C1-CA884171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10A529-06C5-4037-B29B-483B34DA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229F00-E857-4C19-A339-565BF57F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0A8E04-9E1F-4F7E-8CB4-6C9543ED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B0CFCB-C470-44D4-975C-D3CDFB42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CBB3B-4835-40B8-B201-F61DFCA6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C8C699-87C5-45FE-A37E-71EB2690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A84029-82E4-4B1E-8B1C-DC609563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CBACE3-244B-45DA-8528-57A5A33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F450DE-25C7-4BDA-92B7-0639813B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71838D-D62B-443D-91AF-3D9212B8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B2308D-0C65-484D-A4B9-62A6E282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D8F21C-5232-407B-80B9-A76F1D48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945FB4-1D37-4024-8731-A252B91A4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026FAF-458D-4FEF-A3CC-B50FD673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ECE910-6E8F-4F16-A3BE-F63EC09D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8C5C4-D660-4865-BDAF-ED6772D7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1EDBD0-807C-4791-A905-EC0A30A1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8A376D2-3A81-476C-8C2C-880E3E78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7C8C02-50B4-4986-AC79-50A38BCC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AFB4F4-B26A-41A7-AF06-75EA81E9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A9A024-8124-48CC-B0D5-BEB882BE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712E4C-D94B-4C42-93A0-1CF81D49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FC8B81-2582-484E-B1F1-CDF9C6D7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4A712D-4646-4FD8-A920-1031FF78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8D4472-F062-490A-B459-AE63EDB6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84B8C2-DB0F-4615-AA29-BEB5B2A2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EEA2-D844-459F-A5DA-69A50FAC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CC744B-8AE3-4E00-BC81-FF8A3ED2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5D2F6A-773B-41A3-B52C-AABC67A6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4C912F5-0C29-41BF-9AC9-1BCE4F94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8CF390-4B1A-4606-87E2-396522DC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2B1D74-995C-4954-8CDE-BF194A13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908DAE-BE34-45E6-B567-44D213DD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B59AB0-B9F2-4F9F-A8F9-D3E8A679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503D00-424A-47D6-9F9C-3A71B78B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6BDBC8-E849-4831-B6F4-3AED5FB5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642D10-D81E-4268-981C-3C1F9CD6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4EFC-CEFC-4B34-8AE5-7E4A69BA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07882E-B9E9-4D98-BAF6-BC12DBE0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6B03C0-AC56-452C-B5E7-EBF726F5E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124E44-6447-4015-87F9-5032DB5E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FFB1E2-7D89-41E7-B0C0-A05BBB14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4F76B4-8251-43D2-B5E5-CFEE3F5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7FFEC2-0914-4943-972C-66583E1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6EE624-640B-4335-A55D-1821F94C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163A97-E022-4B57-BB51-D5E2384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07D8FA-9ECB-4135-B8CF-B6D71E1D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CE07A8-6B4C-49D6-9678-163DE736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4565-B518-4F5B-9DB1-CBF0F4C9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572CB1-B2E6-40E0-BF74-BF3AE47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1C68DA-E914-40A1-937E-3E0F0132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64941E-E9BC-442D-8ED3-1320ABFC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C22DD2-77FE-43BD-943A-46B8CA6D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522F95-C273-40D4-B7BE-F42D6B07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045D23-0362-403D-8C34-D08AC2D4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2B8075-D4A9-4A39-B61A-924F47CB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013C5C-8D5E-422F-B75F-EA96CCA9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E2EF2C-38F2-4BB1-BF52-21077BE3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83877E-6D2A-4039-A161-B1E2994E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019B8-9F6C-4DE1-956A-AE27A62A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24856D-B5B9-4CD6-A979-18624570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F15037-ACD1-424C-B9E0-D04FD479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55C242C-8479-4C09-BC4E-B99B0070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919492-68DA-4AD7-88BF-D0AF082C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A4284E-E960-40AA-971F-03C292B9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1C66C0-5A43-4C9F-9629-5C6A2BCA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3B9679-0ECE-4469-9B74-57B87CD5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91BFDA-456F-4C35-978A-120E1F7F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AED784-854B-435B-B386-6FE7AC4B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3F0D48-9192-4848-AE15-EEBFCFF1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A44F1-9B9D-4E98-AF4B-AB4FFE77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EC8F4A-B794-48AA-B7C4-AF9C33E2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245F3B-C7DF-4065-BA03-D621A572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B3DA69B-77A8-4DAF-B4F0-6261F4B5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927288-7F7B-434A-B19F-9DF0AD5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F1D9EB-973D-45CD-8C3A-98FC02A1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642F71-4DFA-4E1B-9491-2CDD2624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FF3026-7B2F-49BA-B544-BB564EEA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4057C4-E89F-405D-86B0-BDD27A39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09F4D2-BF80-4566-A197-E5A8ABB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970C26-1D93-407E-8790-93E3AA78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5DA-0C70-48E7-9A27-D1827842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740D-3BA4-429A-992E-B96AC910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C7C852-7794-45CA-9185-A4630BB6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7EC382-2BA1-4AF6-B741-01212409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695BC3-617B-4A05-9CD1-05B3D607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58A0F4-1B31-4393-8F64-D370F761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4F8953-7614-4E19-8458-3B30C804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DBFABE2-F0C6-4744-87B4-1169F046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A7A0B6-CDFA-420C-86BB-0C142B44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5E64C1D-03C6-4707-912B-55D8A7ED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BAE2DC-2A6C-4610-A65C-CCABEAA4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AC48A-043D-4C13-BE8A-2BB33A5F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3E6B7-36CE-47A4-BBE1-8C7C73A7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4190-8399-45D3-8324-A5F24A00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C2629-F4B5-44A4-ACF0-A8E0D9D6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6A746-C730-43E9-A55E-5535497D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65C07-D4E5-41D2-A0C8-B056464F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DE7B-46B1-419A-80F7-E6C75932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A96DF-0B57-465F-9007-F612D01B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BEF3A-A9D9-4CD9-8584-BBC1A143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9A3C-BA4B-4CB2-8847-A52E0CCF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0E4E-AB9A-45DE-BBCB-D5D1453E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8BDFC-36F1-4EF3-973D-714C0FB6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7A4DF-263A-45BF-B331-B640A9EA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8B678-B32D-4E04-A6B3-DE375B2D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774D3-57A2-4B06-B114-B8D28B3F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81241-D322-4978-9F22-9C4A5A9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0049-27E3-41CB-B724-997A8D34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CAD60-FA42-4D4A-AA57-E10359F9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8861-4581-4F22-A83E-B51EA558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7E116-8414-4ADA-97D1-4861A6D1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568-DE31-4411-80E0-B7579635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36E0-F6A1-40AD-98CA-1B4EED99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9E520-FEFA-43B1-9A0F-E92D59F7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82FB0-7311-44D3-8376-2BF25B69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C2754-AF78-4B13-9CA5-12BE3EF6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1ABE8-6A94-48F0-B958-C5B3BBB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29547-110B-4949-91BA-C8F843F1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C1D96-929B-4A59-B558-ED59880A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D20D1-4051-4905-BC14-12CDC54B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CF5E7-63FB-480F-AB41-3DD871B3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464D2-08E8-4BC9-9CA8-6A79B2E7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CBD9-58F3-4914-A2B2-33816049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C2CE1-2DED-4D67-A00D-43F53B6A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2BFFA-3646-40E1-B755-2E45C18E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5890E-C995-4A3E-9B30-855041CA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557D-8F39-43CE-9BEC-505C7216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DAC98-7DFE-422F-B6A9-A1712D45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647A5-69AF-403F-A98B-28D4CEA62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16264-0829-431C-9894-EDC70C29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D4E72-C1E7-4D1E-8AD0-8F6372C8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9AE7-FCB8-464C-90B1-09032E4D8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5256A-8B47-45DC-B2CA-50CB3297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A7AA-F040-4113-BEA1-F605B5A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5A3BF-9686-4415-9563-D6989687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59577-3C94-4BD6-B312-7952634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2C9CE-1852-40E8-8DE1-8AED5AEE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74FC5-5673-43E4-AA2A-A4FE4F8B8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B86F4-E966-4488-B721-E7C94249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77A9A-242C-47AE-9CCF-DCC3D102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C720F-626E-4E7C-A86C-07566A6F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F83BF-D728-4DC5-A4EF-DD776CD1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5038F-DD6C-4CC3-8670-DEE446AA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B8CFE-ECB6-4D34-BA01-8F64EC3E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4BCF-2FC4-46DE-A3AD-5AAF883F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98E86-60B4-4E16-BE7F-66895571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6E1A7-6DB0-406F-88E6-81C6434C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4F513-8830-4ACD-8B8A-0EF5FF5E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979D7-0646-4984-8F7E-6C0282A3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F23F3-FE00-4BB6-9A49-C3449E05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8C881-3DDE-4515-B49F-7B21D1E9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B460A-7072-4639-BD2F-B8B800F6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42AF7-F782-41C9-9118-E91847E8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BA8EC-2DAB-4E61-AF7C-F274B732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CD620-E8FF-4A0E-B5F7-A5FECF5D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B754-4469-4CE1-B68F-1FB13E58F88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DC1D-FC9D-46D3-9D8A-F320462B37F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4D43-8BD3-44BF-9CC4-4A3D7999D126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239-707F-4CE7-B0FC-07E881CDF50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E46F-FF59-43DA-8B1D-B2605571868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C880-FA31-4247-B013-6D95DCE5FCE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0C91-8C21-417C-BC3E-656F9F329E5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2C1F-98D8-4031-A9C8-54DF8D2C1D4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39B3-D3B6-44E5-9075-2043928F6032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F4F3-031E-4BE3-9570-528FF6D63A89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3636-0484-455C-B240-858D55E4B938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0780-7189-4165-BACF-94ABCD4E0AEC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2173-5BAD-4B3C-A086-6688C1236CE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48FA-CC64-4995-8D04-B53F5455A66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D40A-6A39-45D9-9020-6D654EE912D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E189-0F13-446F-8BA9-068115DDB67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D214-86BC-4063-BCB4-60810750633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327-89E0-488D-9947-21F8175B2B97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2DBB-46D2-4B67-8864-BD00354FC8D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45C7-93B5-4285-9C53-B4134B949B9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4701-2E39-44B9-99AC-C2D468C32D4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47F5-090C-4EA1-9DE5-F0624A4E689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6"/>
          <p:cNvSpPr/>
          <p:nvPr/>
        </p:nvSpPr>
        <p:spPr>
          <a:xfrm>
            <a:off x="0" y="4324320"/>
            <a:ext cx="1744560" cy="777960"/>
          </a:xfrm>
          <a:custGeom>
            <a:avLst/>
            <a:gdLst>
              <a:gd name="textAreaLeft" fmla="*/ 0 w 1744560"/>
              <a:gd name="textAreaRight" fmla="*/ 1744920 w 174456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F2F-5A58-4634-85C5-0095C230DA3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9A98-4CFD-4751-A543-4B138FCA1EFD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28AF-EA21-42EA-AC24-5E9958D191CB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A4E0-9F05-4029-AA8E-91B262A18694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BD70-4B9D-4F68-B3C0-F3A119A547C5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4CF5-ED98-4D65-82DC-2FD21C0F9360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255F-6C51-4F5C-8A45-776A2C429FDF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F291-8290-4FAB-9DA6-40832BD3F953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319D-5F03-47BB-9361-DBFCFE24868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6189-D224-4BCC-BBE3-FE36EAEAE55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DF6F-9AE8-4AF5-A072-D1BD3F256111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4720"/>
              <a:ext cx="99720" cy="626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5760"/>
              <a:ext cx="646200" cy="232236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400" y="5446800"/>
              <a:ext cx="609480" cy="142056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60480" y="6504120"/>
              <a:ext cx="171360" cy="36324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99720" y="3201840"/>
              <a:ext cx="822240" cy="3327480"/>
            </a:xfrm>
            <a:custGeom>
              <a:avLst/>
              <a:gdLst>
                <a:gd name="textAreaLeft" fmla="*/ 0 w 822240"/>
                <a:gd name="textAreaRight" fmla="*/ 822600 w 822240"/>
                <a:gd name="textAreaTop" fmla="*/ 0 h 3327480"/>
                <a:gd name="textAreaBottom" fmla="*/ 3327840 h 332748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1960" y="228600"/>
              <a:ext cx="106200" cy="29271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2927160"/>
                <a:gd name="textAreaBottom" fmla="*/ 2927520 h 292716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7760" y="2944800"/>
              <a:ext cx="79200" cy="4935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70040" y="5478480"/>
              <a:ext cx="190440" cy="1025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025280"/>
                <a:gd name="textAreaBottom" fmla="*/ 1025640 h 102528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4720" y="1398600"/>
              <a:ext cx="2076480" cy="404820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29320"/>
              <a:ext cx="161640" cy="338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70040" y="5359320"/>
              <a:ext cx="36360" cy="222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240" y="6245280"/>
              <a:ext cx="239400" cy="62208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3560" cy="44006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800" y="4316400"/>
              <a:ext cx="422280" cy="158112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560" y="5862960"/>
              <a:ext cx="431640" cy="99036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0560" y="4364280"/>
              <a:ext cx="552240" cy="223668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8360" y="1288800"/>
              <a:ext cx="174600" cy="30272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320" y="6572520"/>
              <a:ext cx="134640" cy="2808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1480" y="4108680"/>
              <a:ext cx="82440" cy="511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080" y="3146400"/>
              <a:ext cx="1411200" cy="2716200"/>
            </a:xfrm>
            <a:custGeom>
              <a:avLst/>
              <a:gdLst>
                <a:gd name="textAreaLeft" fmla="*/ 0 w 1411200"/>
                <a:gd name="textAreaRight" fmla="*/ 1411560 w 1411200"/>
                <a:gd name="textAreaTop" fmla="*/ 0 h 2716200"/>
                <a:gd name="textAreaBottom" fmla="*/ 2716560 h 271620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160" y="6600960"/>
              <a:ext cx="120600" cy="252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080" y="5897880"/>
              <a:ext cx="137880" cy="67464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080" y="5772240"/>
              <a:ext cx="39600" cy="228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560" y="6323400"/>
              <a:ext cx="210960" cy="5299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>
              <a:gd name="textAreaLeft" fmla="*/ 0 w 1589040"/>
              <a:gd name="textAreaRight" fmla="*/ 1589400 w 158904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1F4F-149D-445B-955D-E14B441C10BA}" type="slidenum">
              <a:rPr b="0" lang="ro-RO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programe.ise.ro/actuale.aspx" TargetMode="External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manuale.edu.ro/" TargetMode="External"/><Relationship Id="rId2" Type="http://schemas.openxmlformats.org/officeDocument/2006/relationships/hyperlink" Target="https://www.manuale.edu.ro/" TargetMode="External"/><Relationship Id="rId3" Type="http://schemas.openxmlformats.org/officeDocument/2006/relationships/hyperlink" Target="http://www.edu.ro/" TargetMode="External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biecte2019.edu.ro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2066400" y="231840"/>
            <a:ext cx="8915400" cy="464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CONSFĂTUIREA PROFESORILOR DE 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LIMBI MODERNE</a:t>
            </a:r>
            <a:br>
              <a:rPr sz="5400"/>
            </a:br>
            <a:r>
              <a:rPr b="0" lang="ro-RO" sz="5400" spc="-1" strike="noStrike">
                <a:solidFill>
                  <a:srgbClr val="19017f"/>
                </a:solidFill>
                <a:latin typeface="Calisto MT"/>
              </a:rPr>
              <a:t>(engleză, germană modernă)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 type="subTitle"/>
          </p:nvPr>
        </p:nvSpPr>
        <p:spPr>
          <a:xfrm>
            <a:off x="1689120" y="4776480"/>
            <a:ext cx="1010448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800" spc="-1" strike="noStrike">
                <a:solidFill>
                  <a:srgbClr val="00cc00"/>
                </a:solidFill>
                <a:latin typeface="Calisto MT"/>
              </a:rPr>
              <a:t>17 SEPTEMBRIE 2018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9" name="Picture 2" descr=""/>
          <p:cNvPicPr/>
          <p:nvPr/>
        </p:nvPicPr>
        <p:blipFill>
          <a:blip r:embed="rId1"/>
          <a:stretch/>
        </p:blipFill>
        <p:spPr>
          <a:xfrm>
            <a:off x="2625840" y="522360"/>
            <a:ext cx="807876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"/>
          <p:cNvPicPr/>
          <p:nvPr/>
        </p:nvPicPr>
        <p:blipFill>
          <a:blip r:embed="rId1"/>
          <a:stretch/>
        </p:blipFill>
        <p:spPr>
          <a:xfrm>
            <a:off x="2558880" y="1606680"/>
            <a:ext cx="8178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1531800" y="623520"/>
            <a:ext cx="9972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METODOLOGII/CONVENȚII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DE PARTENERIAT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/ACORDURI DE COLABOR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1698120" y="2042640"/>
            <a:ext cx="9806040" cy="38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rotocol de colaborare privind derularea în România a programului FLEX – </a:t>
            </a:r>
            <a:r>
              <a:rPr b="0" lang="en-GB" sz="2400" spc="-1" strike="noStrike">
                <a:solidFill>
                  <a:srgbClr val="000000"/>
                </a:solidFill>
                <a:latin typeface="Calisto MT"/>
                <a:ea typeface="Tahoma"/>
              </a:rPr>
              <a:t>Future Leaders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Exchange Program – nr. 10584/06.10.2015 (valabil până la data de 06.10.2020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Acord de colaborare încheiat între MENCS – Goethe Institut, privind promovarea limbii germane moderne și a calității predării limbii germane în învățământul preuniversitar – nr. 8713/07.03.201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1617480" y="553680"/>
            <a:ext cx="94503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OLIMPIADE ȘI CONCURSURI: REGULAMENTE, METODOLOGII SPECIFICE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Metodologia-cadru de organizare şi desfăşurare a competiţiilor şcolare şi Regulamentul de organizare a activităţilor cuprinse în calendarul activităţilor educative, şcolare şi extraşcolare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– aprobată prin OM</a:t>
            </a:r>
            <a:r>
              <a:rPr b="0" lang="en-US" sz="2200" spc="-1" strike="noStrike">
                <a:solidFill>
                  <a:srgbClr val="404040"/>
                </a:solidFill>
                <a:latin typeface="Calisto MT"/>
                <a:ea typeface="Tahoma"/>
              </a:rPr>
              <a:t>EN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  <a:ea typeface="Tahoma"/>
              </a:rPr>
              <a:t> nr. 4203/2018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ctualizarea Regulamentelor specifice de organizare și desfășurare a </a:t>
            </a:r>
            <a:r>
              <a:rPr b="0" i="1" lang="ro-RO" sz="2200" spc="-1" strike="noStrike">
                <a:solidFill>
                  <a:srgbClr val="404040"/>
                </a:solidFill>
                <a:latin typeface="Calisto MT"/>
              </a:rPr>
              <a:t>Olimpiadelor naționale de limbi moderne,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conform OM</a:t>
            </a:r>
            <a:r>
              <a:rPr b="0" lang="en-US" sz="2200" spc="-1" strike="noStrike">
                <a:solidFill>
                  <a:srgbClr val="404040"/>
                </a:solidFill>
                <a:latin typeface="Calisto MT"/>
              </a:rPr>
              <a:t>EN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 4203/2018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sto MT"/>
                <a:ea typeface="Calibri"/>
              </a:rPr>
              <a:t>Rezultatele olimpiadelor școlare (naționale și internaționale) la disciplina LIMBI MODERNE, aferente anului școlar 2017-2018, se găsesc pe site-ul ME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200" spc="-1" strike="noStrike">
                <a:solidFill>
                  <a:srgbClr val="00b050"/>
                </a:solidFill>
                <a:latin typeface="Calisto MT"/>
              </a:rPr>
              <a:t>Introducerea etapei naționale pentru clasele a VII-a și a VIII-a la LIMBA ENGLEZĂ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2588760" y="1441440"/>
            <a:ext cx="891540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REDAREA – ÎNVĂȚAREA – FORMAREA COMPETENȚELOR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Centrarea predării pe formarea competențelor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Relaționarea formării competențelor cu evaluarea acestora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Accentuarea dimensiunii conștiente a învățării,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rin proiectarea activităților de învățare care să stimuleze gândirea critică și creativă a elevilor;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Crearea unor contexte de învățare care să determine exprimarea perspectivei personale și creativitatea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Elaborarea unor sarcini de lucru care să evite simpla reproducere a unor informații, a regulilor gramaticale, a canoanelor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Utilizarea elementelor de noutate (input audio – video, sarcini de lucru diversificate, atractive, atipice etc.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IORITĂȚI EDUCAȚIONAL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EVALUAREA – EVALUAREA COMPETENȚELOR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Proiectarea și diversificarea activităților de evaluare astfel încât să stimuleze gândirea analitică, sintetică, creativ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Elaborarea itemilor/sarcinilor de evaluare pe competenț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Utilizarea unor sarcini de lucru diverse, inedite, atractive, care să stimuleze participarea elevilor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alibrarea testelor de evaluare conform nivelului lingvistic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FORMAREA PROFESORILO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1952280" y="1689120"/>
            <a:ext cx="9551880" cy="42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Valorificarea inspecțiilor efectuate în proiectarea activităților de formar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Includerea, cu prioritate, în cursurile/sesiunile de formare a componentelor de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conținut științific și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metodică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ccentuarea dimensiunii creative a proiectării didactice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Alocarea unui număr mai mare de ore activităților practice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Mentorat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Proiectul CRED (</a:t>
            </a:r>
            <a:r>
              <a:rPr b="0" i="1" lang="ro-RO" sz="2400" spc="-1" strike="noStrike">
                <a:solidFill>
                  <a:srgbClr val="404040"/>
                </a:solidFill>
                <a:latin typeface="Calisto MT"/>
              </a:rPr>
              <a:t>Curriculum Relevant, Educație Deschisă pentru toți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INSPECȚIA ȘCOLARĂ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aborarea documentelor de proiectare didactică conform programelor în vigoar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plicarea programelor școlare de limbi moderne la gimnaziu;  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plicarea eficientă a programei școlare pentru clasele cu program intensiv/bilingv de studiu al unei limbi modern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Adecvarea procesului de predare – evaluare la fiecare regim de studiu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Respectarea programelor școlare în raport cu criteriile de evaluare specifice examenelor finale de absolvire/de admitere în învățământul liceal.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2592360" y="623880"/>
            <a:ext cx="89121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600" spc="-1" strike="noStrike">
                <a:solidFill>
                  <a:srgbClr val="262626"/>
                </a:solidFill>
                <a:latin typeface="Calisto MT"/>
              </a:rPr>
              <a:t>Programa școlară – clasa a VI 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4" name=""/>
          <p:cNvSpPr txBox="1"/>
          <p:nvPr/>
        </p:nvSpPr>
        <p:spPr>
          <a:xfrm>
            <a:off x="2588760" y="1352160"/>
            <a:ext cx="891540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lemente de noutate – Programa: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este structurată pe formarea – evaluarea competențelor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 </a:t>
            </a: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include procesele de construcție a competenței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indică tipuri de activități specifice formării acestora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relaționează  subcompetențele cu norma lingvistică și conținutul adecvat;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face referire la modalitatea de evaluare a competențelor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sugerează tipuri de activități de evaluare specifice fiecărei competențe/subcompetențe;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200" spc="-1" strike="noStrike">
                <a:solidFill>
                  <a:srgbClr val="404040"/>
                </a:solidFill>
                <a:latin typeface="Calisto MT"/>
              </a:rPr>
              <a:t>stimulează exprimarea punctului de vedere și creativitatea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2085480" y="623520"/>
            <a:ext cx="94186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PREDAREA –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Î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NV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ĂȚ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</a:rPr>
              <a:t>AREA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 – EVALUAREA CREATIVĂ</a:t>
            </a:r>
            <a:br>
              <a:rPr sz="3200"/>
            </a:br>
            <a:r>
              <a:rPr b="0" lang="ro-RO" sz="3200" spc="-1" strike="noStrike">
                <a:solidFill>
                  <a:srgbClr val="262626"/>
                </a:solidFill>
                <a:latin typeface="Calisto MT"/>
              </a:rPr>
              <a:t> CREATIVE TEACHER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6" name=""/>
          <p:cNvSpPr txBox="1"/>
          <p:nvPr/>
        </p:nvSpPr>
        <p:spPr>
          <a:xfrm>
            <a:off x="1261800" y="2133360"/>
            <a:ext cx="564012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Think outside the box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xplore all possibiliti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Foster creativ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multiple viewpoin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sk open questio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void demonstrating a right wa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Highlight divers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creative problem solv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Encourage risks and allow mistak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Rethink literatur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Assess creativel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7" name=""/>
          <p:cNvSpPr txBox="1"/>
          <p:nvPr/>
        </p:nvSpPr>
        <p:spPr>
          <a:xfrm>
            <a:off x="7191000" y="2125440"/>
            <a:ext cx="46306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Method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Brainstorm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Mind Maps (words, symbols, images etc.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Get hypothetical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Build a storyboard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Flip it and reverse it (multiple viewpoints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Real world problem solv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Tell stories!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alisto MT"/>
              </a:rPr>
              <a:t>Create your own text (re-writing a fragment/story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1531800" y="623880"/>
            <a:ext cx="997272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C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ADRUL NORMATIV PRIVIND ORGANIZAREA 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PROCESULUI DE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, ÎN ANUL ȘCOLAR 201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-201</a:t>
            </a:r>
            <a:r>
              <a:rPr b="0" lang="ro-RO" sz="2900" spc="-1" strike="noStrike">
                <a:solidFill>
                  <a:srgbClr val="000000"/>
                </a:solidFill>
                <a:latin typeface="Calisto MT"/>
                <a:ea typeface="Tahoma"/>
              </a:rPr>
              <a:t>9:</a:t>
            </a:r>
            <a:r>
              <a:rPr b="0" lang="en-US" sz="29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355" name="Content Placeholder 2" descr=""/>
          <p:cNvPicPr/>
          <p:nvPr/>
        </p:nvPicPr>
        <p:blipFill>
          <a:blip r:embed="rId1"/>
          <a:stretch/>
        </p:blipFill>
        <p:spPr>
          <a:xfrm>
            <a:off x="1139760" y="2255760"/>
            <a:ext cx="94312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2644920" y="1503360"/>
            <a:ext cx="8804160" cy="39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alisto MT"/>
              </a:rPr>
              <a:t>SPO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ȘI OAMENI BUNI ALĂTURI, ÎN ANUL ȘCOLAR </a:t>
            </a:r>
            <a:br>
              <a:rPr sz="4800"/>
            </a:br>
            <a:r>
              <a:rPr b="0" lang="ro-RO" sz="4800" spc="-1" strike="noStrike">
                <a:solidFill>
                  <a:srgbClr val="262626"/>
                </a:solidFill>
                <a:latin typeface="Calisto MT"/>
              </a:rPr>
              <a:t>2018 – 2019!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2588760" y="5181120"/>
            <a:ext cx="8915400" cy="7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o-RO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S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ahoma"/>
              </a:rPr>
              <a:t>TRUCTURA ANULUI ŞCOLAR 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8</a:t>
            </a:r>
            <a:r>
              <a:rPr b="0" lang="it-IT" sz="3200" spc="-1" strike="noStrike">
                <a:solidFill>
                  <a:srgbClr val="262626"/>
                </a:solidFill>
                <a:latin typeface="Calisto MT"/>
                <a:ea typeface="Tahoma"/>
              </a:rPr>
              <a:t>-201</a:t>
            </a: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ahoma"/>
              </a:rPr>
              <a:t>9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7" name=""/>
          <p:cNvSpPr txBox="1"/>
          <p:nvPr/>
        </p:nvSpPr>
        <p:spPr>
          <a:xfrm>
            <a:off x="1061640" y="2133360"/>
            <a:ext cx="1044252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Structura anului 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ş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colar 2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8-2</a:t>
            </a:r>
            <a:r>
              <a:rPr b="1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01</a:t>
            </a:r>
            <a:r>
              <a:rPr b="1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9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a fost aprobată prin O</a:t>
            </a:r>
            <a:r>
              <a:rPr b="0" lang="en-US" sz="1900" spc="-1" strike="noStrike">
                <a:solidFill>
                  <a:srgbClr val="000000"/>
                </a:solidFill>
                <a:latin typeface="Calisto MT"/>
                <a:ea typeface="Tahoma"/>
              </a:rPr>
              <a:t>MEN </a:t>
            </a:r>
            <a:r>
              <a:rPr b="0" lang="ro-RO" sz="1900" spc="-1" strike="noStrike">
                <a:solidFill>
                  <a:srgbClr val="000000"/>
                </a:solidFill>
                <a:latin typeface="Calisto MT"/>
                <a:ea typeface="Tahoma"/>
              </a:rPr>
              <a:t>nr. 3.220/19.02.2018</a:t>
            </a:r>
            <a:r>
              <a:rPr b="0" lang="ro-RO" sz="1900" spc="-1" strike="noStrike">
                <a:solidFill>
                  <a:srgbClr val="ff0000"/>
                </a:solidFill>
                <a:latin typeface="Calisto MT"/>
                <a:ea typeface="Tahoma"/>
              </a:rPr>
              <a:t>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buClr>
                <a:srgbClr val="ffff99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Cursurile anului şcolar 2018-2019 încep luni, 10 septembrie și însumează 168 de zile lucrătoare (34 de săptămâni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tructura anului școlar cuprinde semestrul I (10 septembrie 2018 - 1 februarie 2019) şi semestrul al II-lea (11 februarie 2019 - 14 iunie 2019)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Vacanţele elevilor din toate ciclurile de învățământ sunt programate astfel: vacanţa de iarnă (22 decembrie 2018 - 13 ianuarie 2019), vacanţă intersemestrială (2 - 10 februarie 2019), vacanţa de primăvară (20 aprilie - 5 mai 2019) şi vacanţa de vară (15 iunie - 15 septembrie 2019)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Suplimentar, clasele din învăţământul primar şi grupele din învăţământul preşcolar beneficiază de vacanţă în săptămâna 27 octombrie - 4 noiembrie 2018. 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1900" spc="-1" strike="noStrike">
                <a:solidFill>
                  <a:srgbClr val="262626"/>
                </a:solidFill>
                <a:latin typeface="Calisto MT"/>
                <a:ea typeface="Tahoma"/>
              </a:rPr>
              <a:t>Pentru clasele terminale din învăţământul liceal, anul şcolar se încheie în data de 31 mai 2019, iar pentru clasa a VIII-a, în data de 7 iunie 2019.</a:t>
            </a: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8" name="Title 1" descr=""/>
          <p:cNvPicPr/>
          <p:nvPr/>
        </p:nvPicPr>
        <p:blipFill>
          <a:blip r:embed="rId1"/>
          <a:stretch/>
        </p:blipFill>
        <p:spPr>
          <a:xfrm>
            <a:off x="2030400" y="457200"/>
            <a:ext cx="9588600" cy="1378080"/>
          </a:xfrm>
          <a:prstGeom prst="rect">
            <a:avLst/>
          </a:prstGeom>
          <a:ln w="0">
            <a:noFill/>
          </a:ln>
        </p:spPr>
      </p:pic>
      <p:sp>
        <p:nvSpPr>
          <p:cNvPr id="2359" name=""/>
          <p:cNvSpPr txBox="1"/>
          <p:nvPr/>
        </p:nvSpPr>
        <p:spPr>
          <a:xfrm>
            <a:off x="1496520" y="2114640"/>
            <a:ext cx="100076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</a:t>
            </a: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OMENCS nr. 3590/5.04.2016 - Plan-cadru de învățământ pentru gimnaziu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MEN nr. 4221/01.08.2018 privind modificarea și completarea Ordinului ministrului educaţiei naţionale nr. 3590/2016, privind aprobarea planurilor-cadru de învăţământ pentru învăţământul gimnazial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404040"/>
                </a:solidFill>
                <a:latin typeface="Calisto MT"/>
                <a:ea typeface="Tahoma"/>
              </a:rPr>
              <a:t>●  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Planurile - cadru  și programele școlare valabile în  anul şcolar 2018-2019  pot fi accesate la adresa:  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ea typeface="Tahoma"/>
                <a:hlinkClick r:id="rId2"/>
              </a:rPr>
              <a:t>http://programe.ise.ro/actuale.aspx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248040" indent="-248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1455480" y="623880"/>
            <a:ext cx="1004868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262626"/>
                </a:solidFill>
                <a:latin typeface="Calisto MT"/>
                <a:ea typeface="Times New Roman"/>
              </a:rPr>
              <a:t>PROGRAMELE ŞCOLARE PENTRU ÎNVĂȚĂMÂNTUL BILINGV VALABILE ÎN ANUL ŞCOLAR 2018 – 2019</a:t>
            </a:r>
            <a:r>
              <a:rPr b="0" lang="en-US" sz="3200" spc="-1" strike="noStrike">
                <a:solidFill>
                  <a:srgbClr val="262626"/>
                </a:solidFill>
                <a:latin typeface="Calisto MT"/>
                <a:ea typeface="Times New Roman"/>
              </a:rPr>
              <a:t> 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1700280" y="2133360"/>
            <a:ext cx="9804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Învățământul bilingv – limba engleză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rdinul ministrului educației naționale nr. 4775/2014 –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Elemente de cultură și civilizație engleză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– Clasele a XI-a și a XII-a cu program de studiu bilingv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Ordinul ministrului educației, cercetării și tineretului nr. 5240/2008 – Istoria Marii Britanii și a Statelor Unite ale Americii – Clasa a X-a  cu program de studiu bilingv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1663560" y="623880"/>
            <a:ext cx="9840960" cy="13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Calisto MT"/>
                <a:ea typeface="Times New Roman"/>
              </a:rPr>
              <a:t>Ordine de ministru </a:t>
            </a:r>
            <a:r>
              <a:rPr b="0" lang="ro-RO" sz="2400" spc="-1" strike="noStrike">
                <a:solidFill>
                  <a:srgbClr val="262626"/>
                </a:solidFill>
                <a:latin typeface="Calisto MT"/>
                <a:ea typeface="Times New Roman"/>
              </a:rPr>
              <a:t>valabile în anul şcolar 2018 – 2019 referitoare la limbile moderne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3" name=""/>
          <p:cNvSpPr txBox="1"/>
          <p:nvPr/>
        </p:nvSpPr>
        <p:spPr>
          <a:xfrm>
            <a:off x="1463400" y="2133360"/>
            <a:ext cx="100407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Limba germană</a:t>
            </a:r>
            <a:r>
              <a:rPr b="0" lang="en-US" sz="2800" spc="-1" strike="noStrike">
                <a:solidFill>
                  <a:srgbClr val="000000"/>
                </a:solidFill>
                <a:latin typeface="Calisto MT"/>
                <a:ea typeface="Tahoma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Ordin nr. 4130/ 17.07.2018 </a:t>
            </a:r>
            <a:r>
              <a:rPr b="0" i="1" lang="ro-RO" sz="2800" spc="-1" strike="noStrike">
                <a:solidFill>
                  <a:srgbClr val="000000"/>
                </a:solidFill>
                <a:latin typeface="Calisto MT"/>
                <a:ea typeface="Tahoma"/>
              </a:rPr>
              <a:t>privind primirea unor profesori germani în învățământul preuniversitar din România, în anul școlar 2018-2019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"/>
          <p:cNvSpPr txBox="1"/>
          <p:nvPr/>
        </p:nvSpPr>
        <p:spPr>
          <a:xfrm>
            <a:off x="2090880" y="831600"/>
            <a:ext cx="9378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000" spc="-1" strike="noStrike">
                <a:solidFill>
                  <a:srgbClr val="404040"/>
                </a:solidFill>
                <a:latin typeface="Calisto MT"/>
              </a:rPr>
              <a:t>OMEN nr. 3027/08.01.2018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pentru modificarea și completarea Anexei - Regulament-cadru de organizare și funcționare a unităților de învățământ preuniversitar la Ordinul ministrului educației naționale și cercetării științifice nr. 5079/2016 privind aprobarea Regulamentului-cadru de organizare și funcționare a unităților de învățământ preuniversitar (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modificarea și completarea </a:t>
            </a:r>
            <a:r>
              <a:rPr b="1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art. 66 </a:t>
            </a:r>
            <a:r>
              <a:rPr b="0" lang="ro-RO" sz="2000" spc="-1" strike="noStrike">
                <a:solidFill>
                  <a:srgbClr val="404040"/>
                </a:solidFill>
                <a:latin typeface="Calisto MT"/>
                <a:ea typeface="Tahoma"/>
              </a:rPr>
              <a:t>– privind atribuțiile catedrelor/comisiilor metodice în elaborarea ofertei CDȘ și selectarea auxiliarelor didactice și a mijloacelor de învățământ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2000" spc="-1" strike="noStrike">
                <a:solidFill>
                  <a:srgbClr val="404040"/>
                </a:solidFill>
                <a:latin typeface="Calisto MT"/>
              </a:rPr>
              <a:t>Regulamentul – cadru de organizare şi funcționare a claselor cu  predare a unei limbi moderne în regim intensiv sau bilingv în unitățile de învățământ preuniversitar – aprobat prin OMEN nr. 4797/2017;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1968480" y="449280"/>
            <a:ext cx="886608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o-RO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FERTA NAŢIONALĂ PENTRU MANU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alisto MT"/>
                <a:ea typeface="Times New Roman"/>
              </a:rPr>
              <a:t>ȘCOLARE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Manuale școlare digital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  <a:ea typeface="Tahoma"/>
              </a:rPr>
              <a:t>- </a:t>
            </a:r>
            <a:r>
              <a:rPr b="0" i="1" lang="ro-RO" sz="2400" spc="-1" strike="noStrike">
                <a:solidFill>
                  <a:srgbClr val="000000"/>
                </a:solidFill>
                <a:latin typeface="Calisto MT"/>
              </a:rPr>
              <a:t>Manuale școlare - 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1"/>
              </a:rPr>
              <a:t>https://www.manuale.edu.ro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2"/>
              </a:rPr>
              <a:t>/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Auxiliare didactice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– OMEN nr. 3022/2018 privind aprobarea auxiliarelor didactice din învățământul preuniversitar (anexă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sto MT"/>
              </a:rPr>
              <a:t>Mijloace de învățământ 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omologate în perioada mai-iulie 2018, în vederea utilizării lor în învățământul preuniversitar (</a:t>
            </a:r>
            <a:r>
              <a:rPr b="0" lang="ro-RO" sz="2400" spc="-1" strike="noStrike" u="sng">
                <a:solidFill>
                  <a:srgbClr val="fb4a18"/>
                </a:solidFill>
                <a:uFillTx/>
                <a:latin typeface="Calisto MT"/>
                <a:hlinkClick r:id="rId3"/>
              </a:rPr>
              <a:t>www.edu.ro</a:t>
            </a:r>
            <a:r>
              <a:rPr b="0" lang="ro-RO" sz="2400" spc="-1" strike="noStrike">
                <a:solidFill>
                  <a:srgbClr val="000000"/>
                </a:solidFill>
                <a:latin typeface="Calisto MT"/>
              </a:rPr>
              <a:t> 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SzPct val="70000"/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1919160" y="398520"/>
            <a:ext cx="888696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METODOLOGII 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ALE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EXAMEN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LOR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 NA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Ţ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IONALE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sto MT"/>
                <a:ea typeface="Tahoma"/>
              </a:rPr>
              <a:t>201</a:t>
            </a:r>
            <a:r>
              <a:rPr b="0" lang="ro-RO" sz="3200" spc="-1" strike="noStrike">
                <a:solidFill>
                  <a:srgbClr val="000000"/>
                </a:solidFill>
                <a:latin typeface="Calisto MT"/>
                <a:ea typeface="Tahoma"/>
              </a:rPr>
              <a:t>9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1162080" y="1534680"/>
            <a:ext cx="1066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Recunoașterea și echivalarea rezultatelor obținute la examene cu recunoaștere internațională –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aprobată prin OM nr. 5905/2016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evaluare națională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13/29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;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Admiterea în învățământul liceal și profesional de stat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– 4829/30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 algn="just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o-RO" sz="1800" spc="-1" strike="noStrike">
                <a:solidFill>
                  <a:srgbClr val="ff0000"/>
                </a:solidFill>
                <a:latin typeface="Century Gothic"/>
              </a:rPr>
              <a:t>Candidaților, care, în clasa a VII-a/a VIII- a, au obținut premiul I, al II-lea sau al III-lea la etapa națională a olimpiadei de limba engleză/ franceză/ germană/ italiană/ spaniolă/ rusă, li se recunosc rezultatele obținute la olimpiadă, în baza diplomei emise de Ministerul Educației Naționale, și li se echivalează cu nota 10 la proba de verificare a cunoștințelor de limbă modernă pentru admiterea în clasele a IX-a cu program bilingv de predare a unei limbi moderne de circulaţie internaţională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Examenul național de bacalaureat 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830/30.08.2018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 ;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Model subiect - </a:t>
            </a:r>
            <a:r>
              <a:rPr b="0" lang="ro-RO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www.subiecte2019.edu.ro</a:t>
            </a:r>
            <a:r>
              <a:rPr b="0" i="1" lang="ro-RO" sz="1800" spc="-1" strike="noStrike">
                <a:solidFill>
                  <a:srgbClr val="000000"/>
                </a:solidFill>
                <a:latin typeface="Century Gothic"/>
              </a:rPr>
              <a:t> (1 noiembrie 2018 ) - </a:t>
            </a:r>
            <a:r>
              <a:rPr b="0" lang="ro-RO" sz="1800" spc="-1" strike="noStrike">
                <a:solidFill>
                  <a:srgbClr val="000000"/>
                </a:solidFill>
                <a:latin typeface="Century Gothic"/>
              </a:rPr>
              <a:t>model pentru proiectarea testelor de  valuare curentă și a celor pentru teze (clasa a VIII-a și a XII-a 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Gothic"/>
                <a:ea typeface="Tahoma"/>
              </a:rPr>
              <a:t>OMEN nr. 4461/27.08.2018 privind aprobarea Calendarului de administrare a Evaluărilor Naționale la finalul claselor a II-a, a IV-a și a VI-a în anul școlar 2018-2019.              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08:59:18Z</dcterms:created>
  <dc:creator>Rodica Cherciu;Manuela Delia</dc:creator>
  <dc:description/>
  <dc:language>en-US</dc:language>
  <cp:lastModifiedBy>Micky</cp:lastModifiedBy>
  <cp:lastPrinted>2018-08-23T12:17:35Z</cp:lastPrinted>
  <dcterms:modified xsi:type="dcterms:W3CDTF">2018-09-16T19:50:59Z</dcterms:modified>
  <cp:revision>84</cp:revision>
  <dc:subject/>
  <dc:title>CONSFĂTUIREA INSPECTORILOR ȘCOLARI PENTRU LIMBI MODERNE</dc:title>
</cp:coreProperties>
</file>