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96FB-DE21-44F7-91F6-8A02C2389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7C9-AED8-4F24-AF36-6C48B88E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9298-73DF-47A2-9BDD-C6C1AF07C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E9C-7F77-4982-A08D-FEF29F00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CB92-1B3F-4265-BF54-B143A223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03F8-5663-4284-ADB5-69ACADA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5BE-90BF-47AC-8CB8-3DCB9D6C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2713-5EFC-47F4-A2A9-C4B6CF03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481-32B1-4A37-BDFC-6F22B27B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A12C-79F2-4068-BA79-C03CB24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AE5-FE4A-40B2-91D8-4046A894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9F50-8DE1-4296-B049-1FFF9854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A016D-05C2-4D79-9F63-CA5BDD67B0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0560" y="353880"/>
            <a:ext cx="8740800" cy="17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70c0"/>
                </a:solidFill>
                <a:latin typeface="Arial Black"/>
              </a:rPr>
              <a:t>Elemente de noutate ale programei școlare pentru discip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17520" y="2290320"/>
            <a:ext cx="96217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ENGLEZĂ/ FRANCEZĂ / SPANIOLĂ / ITALIAN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CHINEZĂ/ ENGLEZĂ/ FRANCEZĂ / SPANIOLĂ / ITALIANĂ/ TURC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 Black"/>
              </a:rPr>
              <a:t>LIMBA MODERNĂ 1/ LIMBA MODERNĂ 2/ LIMBA MODERNĂ 1 – STUDIU INTENSI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 Black"/>
              </a:rPr>
              <a:t>GERMANĂ/ RUSĂ/ JAPONEZ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9400" y="619200"/>
            <a:ext cx="9905760" cy="47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1) CENTRAREA PE COMPETENȚE DE COMUNICARE ȘI NU PE CONȚINUTURI LINGVISTICE SPECIF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4840" y="263160"/>
            <a:ext cx="958500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PRECIZAREA NIVELURILOR DIN CECRL LA INTRAREA ELEVILOR ÎN CICLUL DE ÎNVĂȚĂMÂNT GIMNAZIAL, PRECUM ȘI A NIVELURILOR AȘTEPTATE </a:t>
            </a: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LA FINALUL CICLULUI GIMNAZIAL (a)</a:t>
            </a:r>
            <a:br>
              <a:rPr sz="2600"/>
            </a:b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Calibri"/>
              </a:rPr>
              <a:t>- limbile engleză, franceză, spaniolă, italiană -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03400" y="3105000"/>
          <a:ext cx="9943920" cy="2926080"/>
        </p:xfrm>
        <a:graphic>
          <a:graphicData uri="http://schemas.openxmlformats.org/drawingml/2006/table">
            <a:tbl>
              <a:tblPr/>
              <a:tblGrid>
                <a:gridCol w="3314520"/>
                <a:gridCol w="3314880"/>
                <a:gridCol w="3314520"/>
              </a:tblGrid>
              <a:tr h="960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9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IVELUL DE COMPETENȚĂ LINGVISTICĂ AL ELEVILOR LA </a:t>
                      </a:r>
                      <a:r>
                        <a:rPr b="1" lang="ro-RO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ÎNCEPUTUL CLASEI A V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INALUL CLASEI A VII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2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1 INTENS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6e9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IMBA MODERNĂ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2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1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73000" y="534960"/>
            <a:ext cx="937584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2) PRECIZAREA NIVELURILOR DIN CECRL LA INTRAREA ELEVILOR ÎN CICLUL DE ÎNVĂȚĂMÂNT GIMNAZIAL, PRECUM ȘI A NIVELURILOR AȘTEPTATE LA FINALUL CICLULUI GIMNAZIAL (b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58800" y="1944360"/>
            <a:ext cx="939168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- limbile germană, rusă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627200" y="3094200"/>
          <a:ext cx="7709040" cy="2031840"/>
        </p:xfrm>
        <a:graphic>
          <a:graphicData uri="http://schemas.openxmlformats.org/drawingml/2006/table">
            <a:tbl>
              <a:tblPr/>
              <a:tblGrid>
                <a:gridCol w="1882800"/>
                <a:gridCol w="5826240"/>
              </a:tblGrid>
              <a:tr h="771480"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ivel CEC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ăr de ore necesar pentru atingerea nivelului în gimnaziu GE/ 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1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o-RO" sz="2000" spc="-1" strike="noStrike">
                          <a:solidFill>
                            <a:srgbClr val="00b050"/>
                          </a:solidFill>
                          <a:latin typeface="Arial"/>
                          <a:ea typeface="Calibri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1"/>
                      </a:solidFill>
                    </a:lnL>
                    <a:lnR w="5760">
                      <a:solidFill>
                        <a:srgbClr val="000001"/>
                      </a:solidFill>
                    </a:lnR>
                    <a:lnT w="5760">
                      <a:solidFill>
                        <a:srgbClr val="000001"/>
                      </a:solidFill>
                    </a:lnT>
                    <a:lnB w="5760">
                      <a:solidFill>
                        <a:srgbClr val="000001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6320" y="1787400"/>
            <a:ext cx="1024272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ETALIEREA FIEC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I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COMPETENȚ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GEN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ALE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 ÎN COMPETENȚE SPECIFICE, ULTIMA COMPETENȚĂ SPECIFICĂ FIIND DE NATURĂ SOCIO-CULTURAL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itre 1"/>
          <p:cNvSpPr/>
          <p:nvPr/>
        </p:nvSpPr>
        <p:spPr>
          <a:xfrm>
            <a:off x="976320" y="361944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entury Gothic"/>
              </a:rPr>
              <a:t>4) PREZENTAREA DETALIATĂ A RECOMANDĂRILOR ȘI A SUGESTIILOR METODOLOGICE, PRECUM ȘI A STRATEGIILOR DE PRED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808200" y="1639800"/>
            <a:ext cx="1039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5) PREZENTAREA DE EXEMPLE SPECIFICE FIECĂREI LIMBI, PREZENTAREA DE TEME RECOMANDATE CE EVOLUEAZĂ PROGRESIV DE LA O CLASĂ L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741240" y="2603520"/>
            <a:ext cx="104666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6) PREZENTAREA DE TEME DE PROIECT INTRODUSE PROGRESIV DE LA UN NIVEL LA ALT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741240" y="3830760"/>
            <a:ext cx="1085544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7)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EZENTAREA GRAMATICII 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FUNCȚIONAL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 ÎNTR-O DUBLĂ PERSPECTIV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TELOR DE VORBIRE / A FUNCȚIILOR LIMB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entury Gothic"/>
              </a:rPr>
              <a:t>ACEEA A ELEMENTELOR DE CONSTRUCȚIE A COMUNICĂRII CE CONTRIBUIE LA REALIZAREA DIVERSELOR ACTE DE VORB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988920" y="1082520"/>
            <a:ext cx="990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8) PREZENTAREA DESCRIPTIVĂ, ÎN ANEXĂ, A ELEMENTELOR DE CONSTRUCȚIE A COMUNICĂRII SPECIFICE  FIECĂREI CLASE /FIECĂRUI  NI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39760" y="2738520"/>
            <a:ext cx="1000440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300" spc="-1" strike="noStrike">
                <a:solidFill>
                  <a:srgbClr val="000000"/>
                </a:solidFill>
                <a:latin typeface="Calibri"/>
              </a:rPr>
              <a:t>9) INDICAREA RESURSELOR ON LINE UTILE PARCURGERII PROGRAME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1055520" y="3879720"/>
            <a:ext cx="9875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10) CORELAREA PROGRAMELOR ȘCOLARE PENTRU LIMBI MODERNE CU NIVELURILE DIN CECRL, PRECUM ȘI CU INSTRUMENTELE CONEXE - REFERENȚIALUL PENTRU CECRL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(LIMBA FRANCEZ</a:t>
            </a:r>
            <a:r>
              <a:rPr b="0" lang="ro-RO" sz="2400" spc="-1" strike="noStrike">
                <a:solidFill>
                  <a:srgbClr val="000000"/>
                </a:solidFill>
                <a:latin typeface="Century Gothic"/>
              </a:rPr>
              <a:t>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7T14:36:34Z</dcterms:created>
  <dc:creator>Manuela Delia</dc:creator>
  <dc:description/>
  <dc:language>en-US</dc:language>
  <cp:lastModifiedBy>Micky</cp:lastModifiedBy>
  <dcterms:modified xsi:type="dcterms:W3CDTF">2018-09-16T16:59:14Z</dcterms:modified>
  <cp:revision>25</cp:revision>
  <dc:subject/>
  <dc:title>Elemente de noutate ale programei școlare pentru disciplina</dc:title>
</cp:coreProperties>
</file>